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1F15D-6C0A-4619-8891-59A7A315A6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174DA-4573-4DDF-B8E9-C820A85DE8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03ED0-83B2-4B7B-A89F-B3D13AD3F6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6ADBF-D9D2-42D2-8C72-F8D90EBA0F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7B9FC-3F67-4FE1-B1AE-7E77558158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DF80C-286C-44A1-9E85-8172FCE9A9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E6F52-954D-48FD-8FBB-A49066C18F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6E086-A23E-4FC3-AACC-AA973441BC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F8B21-356F-45BC-A516-553DA1D47F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017BB-D955-452A-A1A5-63EC4E8475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E9C16-76E3-498A-8657-B6A8FA944D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D5481-3516-45EE-BDAB-6F75EB7E48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4FE5-4A8F-4E0E-8E53-863046C724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19080"/>
          </a:xfrm>
          <a:prstGeom prst="rect">
            <a:avLst/>
          </a:prstGeom>
          <a:gradFill rotWithShape="0">
            <a:gsLst>
              <a:gs pos="0">
                <a:srgbClr val="175e17"/>
              </a:gs>
              <a:gs pos="50000">
                <a:srgbClr val="33cc33"/>
              </a:gs>
              <a:gs pos="100000">
                <a:srgbClr val="175e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828800"/>
            <a:ext cx="9144000" cy="19080"/>
          </a:xfrm>
          <a:prstGeom prst="rect">
            <a:avLst/>
          </a:prstGeom>
          <a:gradFill rotWithShape="0">
            <a:gsLst>
              <a:gs pos="0">
                <a:srgbClr val="175e17"/>
              </a:gs>
              <a:gs pos="50000">
                <a:srgbClr val="33cc33"/>
              </a:gs>
              <a:gs pos="100000">
                <a:srgbClr val="175e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05740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Specifying Multithreaded Java semantics for Program Verification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28600" y="441972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hik Roychoudhu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University of Singap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Joint work with Tulika Mitr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3. Use the semantics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a formal executable description of the Java Memory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it for static checking of pro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MM captures all possible behaviors for any implementation – Platform independent reaso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dds value to existing program verification techn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SE 2002, Orlando F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82F0E-DD10-4AEE-AE87-0F6C8667A8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rganiza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ed variable access without l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didate sol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pecifying the Java Memory Model (JM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JMM for ver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SE 2002, Orlando F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BCB26-6D6A-40AB-9760-780A650AFF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JMM Overview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shared variable v 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aster 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ocal copy in each thr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ads read and write local/master copies by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oses ordering constraints on 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aints are informal and declar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d to understand 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SE 2002, Orlando F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31650-060B-4404-A1E7-0B0EA1781C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1143000" y="2437560"/>
            <a:ext cx="1752480" cy="1295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JMM Action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251460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ter copy of v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5880" y="2666880"/>
            <a:ext cx="2590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5480" y="266688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895120" y="335268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95480" y="21337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read(v,t) &l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21337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load(v,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35053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write(v,t)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95680" y="35053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store(v,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4267080"/>
            <a:ext cx="922032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Actions invoked by Program Execu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use/assign(t,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 from/ Write into local copy of v in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lock/unlock(t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quire/Release lock on shared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019920" y="2437560"/>
            <a:ext cx="1752480" cy="1295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19920" y="259092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cal copy of v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SE 2002, Orlando F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CBC63-E39F-40BE-A355-8A2C25243E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Formal Specifica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ynchronous concurrent composi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|| T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|| … || T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|| 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l state of each thread modeled as ca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 Local copy, Stale bit, Dirty bit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ues for incomplete reads/wr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l state of M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 Master copies, Lock ownership info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SE 2002, Orlando F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96B1D-4E9B-40B4-809F-51EE6DEF67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pecifying JMM Action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action is a guarded command   G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Only 8 actions capture all the ru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Use of variable v by thread 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50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stale[t,v]  </a:t>
            </a:r>
            <a:r>
              <a:rPr b="0" lang="en-US" sz="2800" spc="-1" strike="noStrike">
                <a:solidFill>
                  <a:srgbClr val="ff99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return local_copy[t,v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bility of action stated as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gu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rule-based description,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ever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ules  determine the applic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SE 2002, Orlando F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A14D8-92EC-4E29-927A-BA697C43AF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Understanding JMM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205740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ign(t, 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d(t,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8480" y="2666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1905120"/>
            <a:ext cx="2666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ign(t,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ore(t,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d(t,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4541760"/>
            <a:ext cx="7086600" cy="1595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stor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t intervene between 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ssign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loa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on for a variable v by thread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SE 2002, Orlando F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761C3-6191-4D9C-B17E-C64A5F2D15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Understanding JMM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2057400"/>
            <a:ext cx="16761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ign(t, 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ore(t,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d(t,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33526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2286000"/>
            <a:ext cx="1981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assign(t,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 store(t,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 write(t,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read(t,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load(t,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43000" y="5181480"/>
            <a:ext cx="7238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2971800"/>
            <a:ext cx="1523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ign(t,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d(t,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5261040"/>
            <a:ext cx="8334360" cy="82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read &lt; assign &lt;lo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not possible. We spec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assign(t,v) :   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empty(read_queue[t,v])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-&gt;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SE 2002, Orlando F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BE545-545D-49A2-9C3C-A334E863C17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Executable model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va threads invoke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use,assign,lock,unl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ads block if the next action not enab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nable these,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store,write,load,rea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executed in any order provided guard ho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To enable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ssig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executed (if there was an earlier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rea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of of equivalence between executable and rule-based JM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SE 2002, Orlando F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77885-DB23-4952-96D6-B9D6B7FF40A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ther JMM Featur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cutable model also captur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Volatile variab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: Every access of      these variables accesses master 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Prescient stor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Writing master copy ahead of local 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Waiting and Not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ed by additional guarded command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SE 2002, Orlando F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C98A2-1C80-4FCA-B948-6C5057CAFD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Java Multithreading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ads communicate via shared var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ads run on uni- or multi-proces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mantics given as abstract rules : 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Java Memory Model (JM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s locking of shared variables via 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synchroniz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tat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king may be avoided 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SE 2002, Orlando F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78ABE-74C0-4F87-B7EE-2CEF7602BB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rganiza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ed variable access without l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didate sol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Java Memory Model (JM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Using JMM for ver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SE 2002, Orlando F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55D45-3924-488A-9E2A-B0BE3F7CB6C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Verifying Unsynchronized Co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2362320"/>
            <a:ext cx="7010280" cy="121896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2438280"/>
            <a:ext cx="2667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ssign(B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ssign(A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38480" y="2438280"/>
            <a:ext cx="403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 (use(A) !=1){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use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5760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|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3962520"/>
            <a:ext cx="7696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/assign invoke corresponding guarded comm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ad/store/read/write executed to enable use/as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haustive state space exploration shows use(B)                  may return 1 or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SE 2002, Orlando F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3BE72-6246-4C90-9D43-902D7172D6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ogram verifica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sing executable JMM allows 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ate space explosion problem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Java programs are “properly synchronized” and hence SC exec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synchronized code appears in low-level fragments  which are frequently execu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grams are small, so … 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SE 2002, Orlando F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9A8CF-3956-419D-BCEB-6BA0B95EEA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ne possibilit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r chooses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o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rogram path in each thread (Creative ste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haustively check all possible execution  traces from chosen program paths (Automated state space exploration: Can verify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invaria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ing program paths requires understanding source code, not J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SE 2002, Orlando F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46375-796B-48BC-8D68-C07C966CF0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Double Checked Locking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iom for lazy instantiation of a single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 whether garbage data-fields can be returned by this object initialization rout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ification by composing the JMM reveal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mpletely instantiated object  can be retur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re-ordering of writes within constru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ed by prototype invariant checker in 0.15 s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SE 2002, Orlando F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7E208-77C6-4AB4-B5C7-38207CAD43B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ummary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cutable specification of Multithreaded Java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the specification for checking multithreaded pro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ilar approach has been studied before in the context of hardware multiproces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correct the bugs found (the harmful re-orderings)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SE 2002, Orlando F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25EC5-E9BE-4114-9118-21B1EBE1064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90720" y="2743200"/>
            <a:ext cx="693396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5736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Shared variable access without lock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2133720"/>
            <a:ext cx="28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21337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21337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lly :   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A = 0, B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2819520"/>
            <a:ext cx="1676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B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A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2743200"/>
            <a:ext cx="5029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while (A != 1) {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return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4343400"/>
            <a:ext cx="7010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cted  returned value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Locks not used, but using A as fla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SE 2002, Orlando F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B3D4D-7E63-4D62-8816-04FE274C16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at may happe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396252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39625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53341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08080" y="5562720"/>
            <a:ext cx="321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urned value =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3886200"/>
            <a:ext cx="1752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return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B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733920"/>
            <a:ext cx="4114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happen if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ads are executed on different process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2133720"/>
            <a:ext cx="693432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2209680"/>
            <a:ext cx="1676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B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A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2209680"/>
            <a:ext cx="5029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while (A != 1) {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return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4340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SE 2002, Orlando F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87D39-349F-480A-A016-71A192FEBA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Sequential Consistenc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5257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|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4800600"/>
            <a:ext cx="2209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2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257800" y="4724280"/>
            <a:ext cx="2209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’ 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’’ 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198108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rammer expects statements within a thread to complete in program ord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Sequential Consis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47920" y="3043080"/>
            <a:ext cx="6391080" cy="1572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spAutoFit/>
          </a:bodyPr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thread proceeds in program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rations across threads are interlea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Op1 Op’’ Op2 Op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olates 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SE 2002, Orlando F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A3097-F570-4FFC-88DE-2E64A791BD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Is this a problem 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ammers expect S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ification techniques assume SC exec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 not guaranteed by execution plat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demanded by Java language spe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Unrealistic for any future spec. to dem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S 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SE 2002, Orlando F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120D8-E1A3-4D83-B94A-7BFC54DAA2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rganiza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ed variable access without l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andidate sol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Java Memory Model (JM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JMM for ver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SE 2002, Orlando F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69740-D139-448A-A63E-3D2D73862D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1. Program with cau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ways synchronize (and acquire lock) before writing a shared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For these programs, any execution is S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acceptable performance overheads for low-level libr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ftware libraries from other sources cannot be guaranteed to be properly synchroniz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SE 2002, Orlando F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D290B-EE7C-45E1-BCDE-C1F80C5C90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901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2. Change the Semantic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 semantics called Java Memory    Model (JMM).  Part of Java language spe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ker than Sequential Consistency. Specifies which re-orderings are allowed within a thr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ly being considered for revis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isting/future JMM bound to be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weaker than S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Does not solve th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SE 2002, Orlando F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5C6BD-C751-4583-B851-15C7856AC0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C</cp:lastModifiedBy>
  <dcterms:modified xsi:type="dcterms:W3CDTF">2002-06-04T06:41:14Z</dcterms:modified>
  <cp:revision>67</cp:revision>
  <dc:subject/>
  <dc:title>PowerPoint Presentation</dc:title>
</cp:coreProperties>
</file>