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</p:sldIdLst>
  <p:sldSz cx="9144000" cy="6858000"/>
  <p:notesSz cx="6757988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0B562A-4231-43B2-9A71-BC244B1F3A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79D31-2ACC-4349-8D71-1D9C35D241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6278A-A358-47E0-9989-8D27C6BDC0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F625B-1EF4-4461-9479-8F11E55D5A7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C41812-FDD3-442E-9F9A-7795A3504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ABF518-3C69-458A-AB3F-327FDD77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99FA95B-AE66-483F-B564-0FD4F8A8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77FCAA-54D6-4F47-850C-B6322E4E9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583696-86B7-4586-BA2E-D4A587A1D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-380880" y="0"/>
            <a:ext cx="10058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62DCA5-3373-485F-8559-0B86F4F2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9D1B4-6AA3-43BD-BA35-EDEFD0775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68632-2F09-4676-8B27-8E6EB0116E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575C17-AD38-4295-81C8-0D2B10FE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95AE20-03F1-42CF-8B61-5172D226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10DA2-2815-4D41-8BC5-4CA6259E3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4DC01-7824-4955-B2EF-42F3C705F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05961B-4090-40C3-BDB4-8432711E7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CD396-7673-47BC-ACD3-6E426136DF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925971-2235-440C-8BFF-A4FAD6B303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AF1FD-5A60-42AB-A776-0F5464F2CB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80880" y="0"/>
            <a:ext cx="10058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289BF0-F850-4732-ABB7-BD0576C664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AAAFA-8C29-407A-B532-E73C1B19BB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8DE8A-BACD-4410-A554-0BA695C4F5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52C8B-75E5-4975-9510-2EE318661B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0"/>
            <a:ext cx="7924680" cy="137160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BFD0D-9B78-4763-B885-E754809D4247}" type="slidenum"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63340-031C-4098-82AB-F639949BB40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Marlett" charset="2"/>
              <a:buChar char="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Marlett" charset="2"/>
              <a:buChar char="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Marlett" charset="2"/>
              <a:buChar char="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c:\friartuck\bin\ozenginew c:\henz\talks\sma2001\programs\money.ozf" TargetMode="Externa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c:\friartuck\bin\ozenginew c:\henz\talks\sma2001\programs\money_bigtree.ozf" TargetMode="External"/><Relationship Id="rId2" Type="http://schemas.openxmlformats.org/officeDocument/2006/relationships/hyperlink" Target="c:\friartuck\bin\ozenginew c:\henz\talks\sma2001\programs\money.ozf" TargetMode="External"/><Relationship Id="rId3" Type="http://schemas.openxmlformats.org/officeDocument/2006/relationships/hyperlink" Target="c:\friartuck\bin\ozenginew c:\henz\talks\sma2001\programs\money_smalltree.ozf" TargetMode="External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26676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df103"/>
                </a:solidFill>
                <a:latin typeface="Times New Roman"/>
              </a:rPr>
              <a:t>Constraint Programming I</a:t>
            </a:r>
            <a:endParaRPr b="0" lang="en-US" sz="66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430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rch 13, 200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5181480"/>
            <a:ext cx="7543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tin Henz, School of Computing, N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www.comp.nus.edu.sg/~hen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A Model for  </a:t>
            </a:r>
            <a:r>
              <a:rPr b="1" lang="en-US" sz="4800" spc="-1" strike="noStrike">
                <a:solidFill>
                  <a:srgbClr val="fdf103"/>
                </a:solidFill>
                <a:latin typeface="Courier New"/>
              </a:rPr>
              <a:t>MONEY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8 variables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{S,E,N,D,M,O,R,Y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5 constraint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{(S,E,N,D,M,O,R,Y)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</a:t>
            </a:r>
            <a:r>
              <a:rPr b="0" lang="en-US" sz="2400" spc="-1" strike="noStrike" baseline="30000">
                <a:solidFill>
                  <a:srgbClr val="eaeaea"/>
                </a:solidFill>
                <a:latin typeface="Courier New"/>
              </a:rPr>
              <a:t>8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| 0 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S,…,Y 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9 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{(S,E,N,D,M,O,R,Y)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</a:t>
            </a:r>
            <a:r>
              <a:rPr b="0" lang="en-US" sz="2400" spc="-1" strike="noStrike" baseline="30000">
                <a:solidFill>
                  <a:srgbClr val="eaeaea"/>
                </a:solidFill>
                <a:latin typeface="Courier New"/>
              </a:rPr>
              <a:t>8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|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1000*S + 100*E + 10*N + 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              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 1000*M + 100*O + 10*R + 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    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 10000*M + 1000*O + 100*N + 10*E + Y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13960-019C-48AD-8BC5-226FD9474F05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7320" y="228240"/>
            <a:ext cx="8591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A Model for  </a:t>
            </a:r>
            <a:r>
              <a:rPr b="1" lang="en-US" sz="4800" spc="-1" strike="noStrike">
                <a:solidFill>
                  <a:srgbClr val="fdf103"/>
                </a:solidFill>
                <a:latin typeface="Courier New"/>
              </a:rPr>
              <a:t>MONEY</a:t>
            </a:r>
            <a:r>
              <a:rPr b="0" lang="en-US" sz="4800" spc="-1" strike="noStrike">
                <a:solidFill>
                  <a:srgbClr val="fdf103"/>
                </a:solidFill>
                <a:latin typeface="Courier New"/>
              </a:rPr>
              <a:t> </a:t>
            </a: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(continued)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re constraint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Courier New"/>
              </a:rPr>
              <a:t>3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 {(S,E,N,D,M,O,R,Y)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</a:t>
            </a:r>
            <a:r>
              <a:rPr b="0" lang="en-US" sz="2400" spc="-1" strike="noStrike" baseline="30000">
                <a:solidFill>
                  <a:srgbClr val="eaeaea"/>
                </a:solidFill>
                <a:latin typeface="Courier New"/>
              </a:rPr>
              <a:t>8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| S 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0 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Courier New"/>
              </a:rPr>
              <a:t>4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 {(S,E,N,D,M,O,R,Y)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</a:t>
            </a:r>
            <a:r>
              <a:rPr b="0" lang="en-US" sz="2400" spc="-1" strike="noStrike" baseline="30000">
                <a:solidFill>
                  <a:srgbClr val="eaeaea"/>
                </a:solidFill>
                <a:latin typeface="Courier New"/>
              </a:rPr>
              <a:t>8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| M 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0 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Courier New"/>
              </a:rPr>
              <a:t>5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 {(S,E,N,D,M,O,R,Y)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</a:t>
            </a:r>
            <a:r>
              <a:rPr b="0" lang="en-US" sz="2400" spc="-1" strike="noStrike" baseline="30000">
                <a:solidFill>
                  <a:srgbClr val="eaeaea"/>
                </a:solidFill>
                <a:latin typeface="Courier New"/>
              </a:rPr>
              <a:t>8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| S…Y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ll different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A0ADF-1911-4CD9-9815-FC4C7A695779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160" y="-360"/>
            <a:ext cx="922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Solution for  </a:t>
            </a:r>
            <a:r>
              <a:rPr b="1" lang="en-US" sz="4800" spc="-1" strike="noStrike">
                <a:solidFill>
                  <a:srgbClr val="fdf103"/>
                </a:solidFill>
                <a:latin typeface="Courier New"/>
              </a:rPr>
              <a:t>MONEY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9154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{(S,E,N,D,M,O,R,Y)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</a:t>
            </a:r>
            <a:r>
              <a:rPr b="0" lang="en-US" sz="2400" spc="-1" strike="noStrike" baseline="30000">
                <a:solidFill>
                  <a:srgbClr val="eaeaea"/>
                </a:solidFill>
                <a:latin typeface="Courier New"/>
              </a:rPr>
              <a:t>8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|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S,…,Y</a:t>
            </a:r>
            <a:r>
              <a:rPr b="1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9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Courier New"/>
              </a:rPr>
              <a:t>2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{(S,E,N,D,M,O,R,Y)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</a:t>
            </a:r>
            <a:r>
              <a:rPr b="0" lang="en-US" sz="2400" spc="-1" strike="noStrike" baseline="30000">
                <a:solidFill>
                  <a:srgbClr val="eaeaea"/>
                </a:solidFill>
                <a:latin typeface="Courier New"/>
              </a:rPr>
              <a:t>8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|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                  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1000*S + 100*E + 10*N + 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                  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+ 1000*M + 100*O + 10*R + 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= 10000*M + 1000*O + 100*N + 10*E + Y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Courier New"/>
              </a:rPr>
              <a:t>3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 {(S,E,N,D,M,O,R,Y)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</a:t>
            </a:r>
            <a:r>
              <a:rPr b="0" lang="en-US" sz="2400" spc="-1" strike="noStrike" baseline="30000">
                <a:solidFill>
                  <a:srgbClr val="eaeaea"/>
                </a:solidFill>
                <a:latin typeface="Courier New"/>
              </a:rPr>
              <a:t>8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|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S </a:t>
            </a:r>
            <a:r>
              <a:rPr b="1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 0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Courier New"/>
              </a:rPr>
              <a:t>4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 {(S,E,N,D,M,O,R,Y)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</a:t>
            </a:r>
            <a:r>
              <a:rPr b="0" lang="en-US" sz="2400" spc="-1" strike="noStrike" baseline="30000">
                <a:solidFill>
                  <a:srgbClr val="eaeaea"/>
                </a:solidFill>
                <a:latin typeface="Courier New"/>
              </a:rPr>
              <a:t>8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|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M </a:t>
            </a:r>
            <a:r>
              <a:rPr b="1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 0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Courier New"/>
              </a:rPr>
              <a:t>5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 {(S,E,N,D,M,O,R,Y)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</a:t>
            </a:r>
            <a:r>
              <a:rPr b="0" lang="en-US" sz="2400" spc="-1" strike="noStrike" baseline="30000">
                <a:solidFill>
                  <a:srgbClr val="eaeaea"/>
                </a:solidFill>
                <a:latin typeface="Courier New"/>
              </a:rPr>
              <a:t>8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|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S…Y </a:t>
            </a: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all different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aeaea"/>
                </a:solidFill>
                <a:latin typeface="Times New Roman"/>
              </a:rPr>
              <a:t>Solution: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 (9,5,6,7,1,0,8,2)</a:t>
            </a:r>
            <a:r>
              <a:rPr b="1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eaeaea"/>
                </a:solidFill>
                <a:latin typeface="Symbol"/>
                <a:ea typeface="Symbol"/>
              </a:rPr>
              <a:t></a:t>
            </a:r>
            <a:r>
              <a:rPr b="1" lang="en-US" sz="2400" spc="-1" strike="noStrike" baseline="30000">
                <a:solidFill>
                  <a:srgbClr val="eaeaea"/>
                </a:solidFill>
                <a:latin typeface="Courier New"/>
              </a:rPr>
              <a:t>8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0715A-9D17-425C-B196-A1CF4CC7ACF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9200" y="-360"/>
            <a:ext cx="922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Constraint Programming 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971640" y="2495520"/>
            <a:ext cx="7727760" cy="390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oose propagation algorith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ll different: wait for fix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um: interval consistenc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oose branching algorith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rst-fail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oose exploration algorith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pth-first searc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27640" y="1454040"/>
            <a:ext cx="759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xploiting constraints during tree sear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BADABB-95BC-424C-B64E-4A37AA6DB20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4324320" y="4286160"/>
            <a:ext cx="2362320" cy="2990880"/>
          </a:xfrm>
          <a:prstGeom prst="line">
            <a:avLst/>
          </a:prstGeom>
          <a:ln w="254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362480" y="0"/>
            <a:ext cx="4781520" cy="25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f103"/>
                </a:solidFill>
                <a:latin typeface="Courier New"/>
              </a:rPr>
              <a:t>S E N D</a:t>
            </a:r>
            <a:br>
              <a:rPr sz="4000"/>
            </a:br>
            <a:r>
              <a:rPr b="1" lang="en-US" sz="4000" spc="-1" strike="noStrike">
                <a:solidFill>
                  <a:srgbClr val="fdf103"/>
                </a:solidFill>
                <a:latin typeface="Courier New"/>
              </a:rPr>
              <a:t>+ M O R 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df103"/>
                </a:solidFill>
                <a:latin typeface="Courier New"/>
              </a:rPr>
              <a:t>= M O N E Y</a:t>
            </a:r>
            <a:endParaRPr b="0" lang="en-US" sz="40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819520" y="2990520"/>
            <a:ext cx="63244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0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,…,Y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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9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S </a:t>
            </a:r>
            <a:r>
              <a:rPr b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 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M </a:t>
            </a:r>
            <a:r>
              <a:rPr b="1" lang="en-US" sz="2000" spc="-1" strike="noStrike">
                <a:solidFill>
                  <a:srgbClr val="eaeaea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 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                        </a:t>
            </a: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S…Y 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all differen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                            </a:t>
            </a: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1000*S + 100*E + 10*N + 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+ 1000*M + 100*O + 10*R + 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= 10000*M + 1000*O + 100*N + 10*E + 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695920" y="1638360"/>
            <a:ext cx="3448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0"/>
            <a:ext cx="5448240" cy="47052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06360" y="246240"/>
            <a:ext cx="14515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S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MT Extra"/>
                <a:ea typeface="MT Extra"/>
              </a:rPr>
              <a:t>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E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MT Extra"/>
                <a:ea typeface="MT Extra"/>
              </a:rPr>
              <a:t>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N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MT Extra"/>
                <a:ea typeface="MT Extra"/>
              </a:rPr>
              <a:t>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D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MT Extra"/>
                <a:ea typeface="MT Extra"/>
              </a:rPr>
              <a:t>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M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MT Extra"/>
                <a:ea typeface="MT Extra"/>
              </a:rPr>
              <a:t>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O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MT Extra"/>
                <a:ea typeface="MT Extra"/>
              </a:rPr>
              <a:t>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R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MT Extra"/>
                <a:ea typeface="MT Extra"/>
              </a:rPr>
              <a:t>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Y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MT Extra"/>
                <a:ea typeface="MT Extra"/>
              </a:rPr>
              <a:t>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-628920" y="4286160"/>
            <a:ext cx="1733400" cy="2000520"/>
          </a:xfrm>
          <a:prstGeom prst="line">
            <a:avLst/>
          </a:prstGeom>
          <a:ln w="254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876467-E676-4F85-86A8-F004C1DF882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4343400" y="5124600"/>
            <a:ext cx="2362320" cy="2990880"/>
          </a:xfrm>
          <a:prstGeom prst="line">
            <a:avLst/>
          </a:prstGeom>
          <a:ln w="254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362480" y="0"/>
            <a:ext cx="4781520" cy="25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f103"/>
                </a:solidFill>
                <a:latin typeface="Courier New"/>
              </a:rPr>
              <a:t>S E N D</a:t>
            </a:r>
            <a:br>
              <a:rPr sz="4000"/>
            </a:br>
            <a:r>
              <a:rPr b="1" lang="en-US" sz="4000" spc="-1" strike="noStrike">
                <a:solidFill>
                  <a:srgbClr val="fdf103"/>
                </a:solidFill>
                <a:latin typeface="Courier New"/>
              </a:rPr>
              <a:t>+ M O R 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df103"/>
                </a:solidFill>
                <a:latin typeface="Courier New"/>
              </a:rPr>
              <a:t>= M O N E Y</a:t>
            </a:r>
            <a:endParaRPr b="0" lang="en-US" sz="40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819520" y="2990520"/>
            <a:ext cx="63244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80808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S,…,Y</a:t>
            </a:r>
            <a:r>
              <a:rPr b="1" lang="en-US" sz="2000" spc="-1" strike="noStrike">
                <a:solidFill>
                  <a:srgbClr val="80808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S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M </a:t>
            </a:r>
            <a:r>
              <a:rPr b="1" lang="en-US" sz="2800" spc="-1" strike="noStrike">
                <a:solidFill>
                  <a:srgbClr val="ff0000"/>
                </a:solidFill>
                <a:latin typeface="Symbol"/>
                <a:ea typeface="Symbol"/>
              </a:rPr>
              <a:t></a:t>
            </a:r>
            <a:r>
              <a:rPr b="1" lang="en-US" sz="2800" spc="-1" strike="noStrike">
                <a:solidFill>
                  <a:srgbClr val="ff0000"/>
                </a:solidFill>
                <a:latin typeface="Courier New"/>
              </a:rPr>
              <a:t> 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                        </a:t>
            </a: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S…Y </a:t>
            </a: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all differen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                            </a:t>
            </a: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1000*S + 100*E + 10*N + 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+ 1000*M + 100*O + 10*R + 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= 10000*M + 1000*O + 100*N + 10*E + 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695920" y="1638360"/>
            <a:ext cx="3448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9080" y="838080"/>
            <a:ext cx="5448240" cy="470556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27240" y="1084320"/>
            <a:ext cx="266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S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{0..9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E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{0..9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N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{0..9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D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{0..9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M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{0..9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O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{0..9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R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{0..9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Y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{0..9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-609840" y="5124600"/>
            <a:ext cx="1733400" cy="2000160"/>
          </a:xfrm>
          <a:prstGeom prst="line">
            <a:avLst/>
          </a:prstGeom>
          <a:ln w="254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80" y="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pag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A7119-6396-4FDD-9AB9-1AB021F498E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343400" y="5048280"/>
            <a:ext cx="2362320" cy="2990880"/>
          </a:xfrm>
          <a:prstGeom prst="line">
            <a:avLst/>
          </a:prstGeom>
          <a:ln w="254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362480" y="0"/>
            <a:ext cx="4781520" cy="25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f103"/>
                </a:solidFill>
                <a:latin typeface="Courier New"/>
              </a:rPr>
              <a:t>S E N D</a:t>
            </a:r>
            <a:br>
              <a:rPr sz="4000"/>
            </a:br>
            <a:r>
              <a:rPr b="1" lang="en-US" sz="4000" spc="-1" strike="noStrike">
                <a:solidFill>
                  <a:srgbClr val="fdf103"/>
                </a:solidFill>
                <a:latin typeface="Courier New"/>
              </a:rPr>
              <a:t>+ M O R 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df103"/>
                </a:solidFill>
                <a:latin typeface="Courier New"/>
              </a:rPr>
              <a:t>= M O N E Y</a:t>
            </a:r>
            <a:endParaRPr b="0" lang="en-US" sz="40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676160" y="299052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80808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S,…,Y</a:t>
            </a:r>
            <a:r>
              <a:rPr b="1" lang="en-US" sz="2000" spc="-1" strike="noStrike">
                <a:solidFill>
                  <a:srgbClr val="80808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S </a:t>
            </a:r>
            <a:r>
              <a:rPr b="1" lang="en-US" sz="2000" spc="-1" strike="noStrike">
                <a:solidFill>
                  <a:srgbClr val="80808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 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M </a:t>
            </a:r>
            <a:r>
              <a:rPr b="1" lang="en-US" sz="2000" spc="-1" strike="noStrike">
                <a:solidFill>
                  <a:srgbClr val="80808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 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…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l differe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1000*S + 100*E + 10*N + 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+ 1000*M + 100*O + 10*R + 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= 10000*M + 1000*O + 100*N + 10*E + 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695920" y="1638360"/>
            <a:ext cx="3448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9080" y="762120"/>
            <a:ext cx="5448240" cy="47052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27240" y="1008000"/>
            <a:ext cx="266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S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{1..9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E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{0..9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N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{0..9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D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{0..9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M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{1..9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O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{0..9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R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{0..9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Y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{0..9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-609840" y="5048280"/>
            <a:ext cx="1733400" cy="2000160"/>
          </a:xfrm>
          <a:prstGeom prst="line">
            <a:avLst/>
          </a:prstGeom>
          <a:ln w="254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80" y="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pag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2163C-D7E0-430A-9A83-B9E82E1C26A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4324320" y="5067360"/>
            <a:ext cx="2362320" cy="2990880"/>
          </a:xfrm>
          <a:prstGeom prst="line">
            <a:avLst/>
          </a:prstGeom>
          <a:ln w="254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362480" y="0"/>
            <a:ext cx="4781520" cy="25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f103"/>
                </a:solidFill>
                <a:latin typeface="Courier New"/>
              </a:rPr>
              <a:t>S E N D</a:t>
            </a:r>
            <a:br>
              <a:rPr sz="4000"/>
            </a:br>
            <a:r>
              <a:rPr b="1" lang="en-US" sz="4000" spc="-1" strike="noStrike">
                <a:solidFill>
                  <a:srgbClr val="fdf103"/>
                </a:solidFill>
                <a:latin typeface="Courier New"/>
              </a:rPr>
              <a:t>+ M O R 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df103"/>
                </a:solidFill>
                <a:latin typeface="Courier New"/>
              </a:rPr>
              <a:t>= M O N E Y</a:t>
            </a:r>
            <a:endParaRPr b="0" lang="en-US" sz="40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676160" y="299052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80808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S,…,Y</a:t>
            </a:r>
            <a:r>
              <a:rPr b="1" lang="en-US" sz="2000" spc="-1" strike="noStrike">
                <a:solidFill>
                  <a:srgbClr val="80808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S </a:t>
            </a:r>
            <a:r>
              <a:rPr b="1" lang="en-US" sz="2000" spc="-1" strike="noStrike">
                <a:solidFill>
                  <a:srgbClr val="80808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 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M </a:t>
            </a:r>
            <a:r>
              <a:rPr b="1" lang="en-US" sz="2000" spc="-1" strike="noStrike">
                <a:solidFill>
                  <a:srgbClr val="80808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 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…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l differe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1000*S + 100*E + 10*N + 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+ 1000*M + 100*O + 10*R + 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= 10000*M + 1000*O + 100*N + 10*E + 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695920" y="1638360"/>
            <a:ext cx="3448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781200"/>
            <a:ext cx="5448240" cy="4705200"/>
          </a:xfrm>
          <a:prstGeom prst="ellipse">
            <a:avLst/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08520" y="1027080"/>
            <a:ext cx="26647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S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{9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E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{4..7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N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{5..8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D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M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{1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O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{0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R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Y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-628920" y="5067360"/>
            <a:ext cx="1733400" cy="2000160"/>
          </a:xfrm>
          <a:prstGeom prst="line">
            <a:avLst/>
          </a:prstGeom>
          <a:ln w="254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80" y="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pag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A7EB2-424F-4581-B7D4-AEB629B977F0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362480" y="0"/>
            <a:ext cx="4781520" cy="25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f103"/>
                </a:solidFill>
                <a:latin typeface="Courier New"/>
              </a:rPr>
              <a:t>S E N D</a:t>
            </a:r>
            <a:br>
              <a:rPr sz="4000"/>
            </a:br>
            <a:r>
              <a:rPr b="1" lang="en-US" sz="4000" spc="-1" strike="noStrike">
                <a:solidFill>
                  <a:srgbClr val="fdf103"/>
                </a:solidFill>
                <a:latin typeface="Courier New"/>
              </a:rPr>
              <a:t>+ M O R 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df103"/>
                </a:solidFill>
                <a:latin typeface="Courier New"/>
              </a:rPr>
              <a:t>= M O N E Y</a:t>
            </a:r>
            <a:endParaRPr b="0" lang="en-US" sz="40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676160" y="299052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80808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S,…,Y</a:t>
            </a:r>
            <a:r>
              <a:rPr b="1" lang="en-US" sz="2000" spc="-1" strike="noStrike">
                <a:solidFill>
                  <a:srgbClr val="80808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S </a:t>
            </a:r>
            <a:r>
              <a:rPr b="1" lang="en-US" sz="2000" spc="-1" strike="noStrike">
                <a:solidFill>
                  <a:srgbClr val="80808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 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M </a:t>
            </a:r>
            <a:r>
              <a:rPr b="1" lang="en-US" sz="2000" spc="-1" strike="noStrike">
                <a:solidFill>
                  <a:srgbClr val="80808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 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…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l differe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1000*S + 100*E + 10*N + 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+ 1000*M + 100*O + 10*R + 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= 10000*M + 1000*O + 100*N + 10*E + 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95920" y="1638360"/>
            <a:ext cx="3448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89400" y="2087640"/>
            <a:ext cx="525600" cy="838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351160" y="0"/>
            <a:ext cx="2538360" cy="22287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71440" y="0"/>
            <a:ext cx="1422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S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9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E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4..7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N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5..8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D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M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1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O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0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R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Y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2400120" y="2087640"/>
            <a:ext cx="579240" cy="8524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38120" y="2762280"/>
            <a:ext cx="2538360" cy="22287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20600" y="2816280"/>
            <a:ext cx="1422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S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9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E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4..7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N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5..8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D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M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1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O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0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R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Y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237200" y="2762280"/>
            <a:ext cx="2538360" cy="22287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781160" y="2832120"/>
            <a:ext cx="1422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S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9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E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4..7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N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5..8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D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M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1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O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0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R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Y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756800" y="223200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=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558320" y="220680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20" y="0"/>
            <a:ext cx="229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anch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D16CB-DFB8-405A-BC30-E349AEC2E19E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362480" y="0"/>
            <a:ext cx="4781520" cy="25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f103"/>
                </a:solidFill>
                <a:latin typeface="Courier New"/>
              </a:rPr>
              <a:t>S E N D</a:t>
            </a:r>
            <a:br>
              <a:rPr sz="4000"/>
            </a:br>
            <a:r>
              <a:rPr b="1" lang="en-US" sz="4000" spc="-1" strike="noStrike">
                <a:solidFill>
                  <a:srgbClr val="fdf103"/>
                </a:solidFill>
                <a:latin typeface="Courier New"/>
              </a:rPr>
              <a:t>+ M O R 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df103"/>
                </a:solidFill>
                <a:latin typeface="Courier New"/>
              </a:rPr>
              <a:t>= M O N E Y</a:t>
            </a:r>
            <a:endParaRPr b="0" lang="en-US" sz="40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676160" y="299052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0</a:t>
            </a:r>
            <a:r>
              <a:rPr b="1" lang="en-US" sz="2000" spc="-1" strike="noStrike">
                <a:solidFill>
                  <a:srgbClr val="80808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S,…,Y</a:t>
            </a:r>
            <a:r>
              <a:rPr b="1" lang="en-US" sz="2000" spc="-1" strike="noStrike">
                <a:solidFill>
                  <a:srgbClr val="808080"/>
                </a:solidFill>
                <a:latin typeface="Symbol"/>
                <a:ea typeface="Symbol"/>
              </a:rPr>
              <a:t></a:t>
            </a: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S </a:t>
            </a:r>
            <a:r>
              <a:rPr b="1" lang="en-US" sz="2000" spc="-1" strike="noStrike">
                <a:solidFill>
                  <a:srgbClr val="80808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 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M </a:t>
            </a:r>
            <a:r>
              <a:rPr b="1" lang="en-US" sz="2000" spc="-1" strike="noStrike">
                <a:solidFill>
                  <a:srgbClr val="808080"/>
                </a:solidFill>
                <a:latin typeface="Symbol"/>
                <a:ea typeface="Symbol"/>
              </a:rPr>
              <a:t></a:t>
            </a:r>
            <a:r>
              <a:rPr b="1" lang="en-US" sz="2000" spc="-1" strike="noStrike">
                <a:solidFill>
                  <a:srgbClr val="808080"/>
                </a:solidFill>
                <a:latin typeface="Courier New"/>
              </a:rPr>
              <a:t> 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…Y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ll differe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1000*S + 100*E + 10*N + 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+ 1000*M + 100*O + 10*R + 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= 10000*M + 1000*O + 100*N + 10*E + 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695920" y="1638360"/>
            <a:ext cx="3448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89400" y="2087640"/>
            <a:ext cx="539640" cy="8506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351160" y="0"/>
            <a:ext cx="2538360" cy="22287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971440" y="0"/>
            <a:ext cx="1422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S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9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E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4..7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N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5..8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D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M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1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O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0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R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Y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2457000" y="2087640"/>
            <a:ext cx="522360" cy="7570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8640" y="2854440"/>
            <a:ext cx="1855800" cy="204084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237200" y="2762280"/>
            <a:ext cx="2538360" cy="22287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81160" y="2832120"/>
            <a:ext cx="1422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S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9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E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5..7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N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6..8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D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M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1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O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0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R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Y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56800" y="223200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=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58320" y="220680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80" y="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pag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33D31-62E5-40A8-AF7A-4931E15FF621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Today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traint programming in a nutshel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traint propag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ranch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plor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ther search compon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8DB4F-D5AC-4774-AE76-080D93B2A12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362480" y="0"/>
            <a:ext cx="4781520" cy="25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f103"/>
                </a:solidFill>
                <a:latin typeface="Courier New"/>
              </a:rPr>
              <a:t>S E N D</a:t>
            </a:r>
            <a:br>
              <a:rPr sz="4000"/>
            </a:br>
            <a:r>
              <a:rPr b="1" lang="en-US" sz="4000" spc="-1" strike="noStrike">
                <a:solidFill>
                  <a:srgbClr val="fdf103"/>
                </a:solidFill>
                <a:latin typeface="Courier New"/>
              </a:rPr>
              <a:t>+ M O R 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df103"/>
                </a:solidFill>
                <a:latin typeface="Courier New"/>
              </a:rPr>
              <a:t>= M O N E Y</a:t>
            </a:r>
            <a:endParaRPr b="0" lang="en-US" sz="40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95920" y="1638360"/>
            <a:ext cx="3448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852720" y="1649520"/>
            <a:ext cx="454320" cy="6541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82680" y="0"/>
            <a:ext cx="2187720" cy="176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19800" y="44280"/>
            <a:ext cx="1112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S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9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E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4..7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N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5..8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D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M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1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O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0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R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Y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2274840" y="1649520"/>
            <a:ext cx="449280" cy="5983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17720" y="2255760"/>
            <a:ext cx="1598400" cy="15541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7000" y="2182680"/>
            <a:ext cx="2187360" cy="17607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278600" y="2270160"/>
            <a:ext cx="1112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S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9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E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5..7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N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6..8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D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M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1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O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0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R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Y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94800" y="172548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=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078800" y="168768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20" y="0"/>
            <a:ext cx="229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Branch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95760" y="3795840"/>
            <a:ext cx="482760" cy="696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932280" y="3840120"/>
            <a:ext cx="449280" cy="5986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464080" y="4373640"/>
            <a:ext cx="2187720" cy="176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936040" y="4460760"/>
            <a:ext cx="1112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S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9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E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5..7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N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6..8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D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M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1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O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0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R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Y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90400" y="385920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=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36240" y="387828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473200" y="4411800"/>
            <a:ext cx="2187720" cy="176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945160" y="4498920"/>
            <a:ext cx="1112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S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9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E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5..7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N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6..8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D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M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1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O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0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R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Y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6AA71-0FD7-4E74-B9D7-35F5E6C8647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495520" y="4210200"/>
            <a:ext cx="2305080" cy="1923840"/>
          </a:xfrm>
          <a:prstGeom prst="diamond">
            <a:avLst/>
          </a:prstGeom>
          <a:solidFill>
            <a:srgbClr val="33cc33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362480" y="0"/>
            <a:ext cx="4781520" cy="25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f103"/>
                </a:solidFill>
                <a:latin typeface="Courier New"/>
              </a:rPr>
              <a:t>S E N D</a:t>
            </a:r>
            <a:br>
              <a:rPr sz="4000"/>
            </a:br>
            <a:r>
              <a:rPr b="1" lang="en-US" sz="4000" spc="-1" strike="noStrike">
                <a:solidFill>
                  <a:srgbClr val="fdf103"/>
                </a:solidFill>
                <a:latin typeface="Courier New"/>
              </a:rPr>
              <a:t>+ M O R 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df103"/>
                </a:solidFill>
                <a:latin typeface="Courier New"/>
              </a:rPr>
              <a:t>= M O N E Y</a:t>
            </a:r>
            <a:endParaRPr b="0" lang="en-US" sz="40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95920" y="1638360"/>
            <a:ext cx="3448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852720" y="1649520"/>
            <a:ext cx="454320" cy="66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182680" y="0"/>
            <a:ext cx="2187720" cy="176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19800" y="44280"/>
            <a:ext cx="1112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S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9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E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4..7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N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5..8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D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M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1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O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0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R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Y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2274840" y="1649520"/>
            <a:ext cx="449280" cy="5983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17720" y="2255760"/>
            <a:ext cx="1598400" cy="155412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7000" y="2182680"/>
            <a:ext cx="2187360" cy="17607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8600" y="2270160"/>
            <a:ext cx="1112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S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9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E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5..7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N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6..8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D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M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1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O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0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R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Y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594800" y="172548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=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078800" y="168768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80" y="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Propag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67320" y="3811680"/>
            <a:ext cx="511200" cy="696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3932280" y="3840120"/>
            <a:ext cx="449280" cy="5986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464080" y="4373640"/>
            <a:ext cx="2187720" cy="17604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36040" y="4460760"/>
            <a:ext cx="11120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S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9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E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6..7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N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7..8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D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M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1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O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0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R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Y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290400" y="385920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=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36240" y="387828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29920" y="4384800"/>
            <a:ext cx="8377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S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9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E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5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N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6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D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7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M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1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O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0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R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8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Courier New"/>
              </a:rPr>
              <a:t>Y </a:t>
            </a:r>
            <a:r>
              <a:rPr b="1" lang="en-US" sz="1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 {2}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47DBA-FA3B-458F-ACD5-D83EB6BC058D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2492280" y="3059280"/>
            <a:ext cx="1855800" cy="1379520"/>
          </a:xfrm>
          <a:prstGeom prst="diamond">
            <a:avLst/>
          </a:prstGeom>
          <a:solidFill>
            <a:srgbClr val="33cc33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362480" y="0"/>
            <a:ext cx="4781520" cy="25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f103"/>
                </a:solidFill>
                <a:latin typeface="Courier New"/>
              </a:rPr>
              <a:t>S E N D</a:t>
            </a:r>
            <a:br>
              <a:rPr sz="4000"/>
            </a:br>
            <a:r>
              <a:rPr b="1" lang="en-US" sz="4000" spc="-1" strike="noStrike">
                <a:solidFill>
                  <a:srgbClr val="fdf103"/>
                </a:solidFill>
                <a:latin typeface="Courier New"/>
              </a:rPr>
              <a:t>+ M O R 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df103"/>
                </a:solidFill>
                <a:latin typeface="Courier New"/>
              </a:rPr>
              <a:t>= M O N E Y</a:t>
            </a:r>
            <a:endParaRPr b="0" lang="en-US" sz="40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695920" y="1638360"/>
            <a:ext cx="3448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20" y="0"/>
            <a:ext cx="21574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omple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ear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re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84520" y="1182600"/>
            <a:ext cx="354240" cy="459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41720" y="0"/>
            <a:ext cx="1760400" cy="12636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67240" y="63360"/>
            <a:ext cx="87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S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9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E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4..7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N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5..8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D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M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1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O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0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R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Y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2314440" y="1182600"/>
            <a:ext cx="362160" cy="430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303200" y="1617840"/>
            <a:ext cx="1287720" cy="119124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548160" y="1565280"/>
            <a:ext cx="1760400" cy="12636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24720" y="1660680"/>
            <a:ext cx="87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S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9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E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5..7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N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6..8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D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M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1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O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0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R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Y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52040" y="108576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=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759840" y="10969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02120" y="2741760"/>
            <a:ext cx="370080" cy="4712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3633480" y="2755800"/>
            <a:ext cx="376200" cy="459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881600" y="3138480"/>
            <a:ext cx="1760400" cy="12621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58160" y="3233880"/>
            <a:ext cx="87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S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9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E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6..7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N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7..8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D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M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1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O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0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R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Y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998440" y="267336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=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93280" y="272556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080520" y="3179880"/>
            <a:ext cx="67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S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9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E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5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N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6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D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7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M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1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O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0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R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8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Y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2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194520" y="4325760"/>
            <a:ext cx="382320" cy="503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4986000" y="4363920"/>
            <a:ext cx="376200" cy="444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970440" y="4818240"/>
            <a:ext cx="1287360" cy="119124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242960" y="430524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=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407640" y="425916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46920" y="4818240"/>
            <a:ext cx="1287360" cy="119124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E3B94-F813-4063-8E7A-6A58EA5669E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120" y="0"/>
            <a:ext cx="92199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Using OPL Syntax 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74680" y="1447920"/>
            <a:ext cx="886752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num Letter {S,E,N,D,M,O,R,Y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var int l[Letter] in 0..9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solv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alldifferent(l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l[S] &lt;&gt; 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l[M] &lt;&gt; 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                 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l[S]*1000 + l[E]*100 + l[N]*10 + l[D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+              l[M]*1000 + l[O]*100 + l[R]*10 + l[E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= l[M]*10000 + l[O]*1000 + l[N]*100 + l[E]*10 + l[Y] 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Courier New"/>
              </a:rPr>
              <a:t>search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6633"/>
                </a:solidFill>
                <a:latin typeface="Courier New"/>
              </a:rPr>
              <a:t>forall(i in Letter ordered by increasing dsize(l[i]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ff6633"/>
                </a:solidFill>
                <a:latin typeface="Courier New"/>
              </a:rPr>
              <a:t>tryall(v in 0..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Courier New"/>
              </a:rPr>
              <a:t>         </a:t>
            </a:r>
            <a:r>
              <a:rPr b="0" lang="en-US" sz="2000" spc="-1" strike="noStrike">
                <a:solidFill>
                  <a:srgbClr val="ff6633"/>
                </a:solidFill>
                <a:latin typeface="Courier New"/>
              </a:rPr>
              <a:t>l[i] = v; 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Marlett"/>
                <a:ea typeface="Marlett"/>
              </a:rPr>
              <a:t>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All Solutions; Execution </a:t>
            </a:r>
            <a:r>
              <a:rPr b="1" lang="en-US" sz="2400" spc="-1" strike="noStrike">
                <a:solidFill>
                  <a:srgbClr val="ff00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 R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DEA87-83C9-4631-870C-97F8330D557C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99960" y="-360"/>
            <a:ext cx="8382240" cy="17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The Art of Constraint Programming 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066320" y="220968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oose mod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oose propagation algorith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oose branching algorith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hoose exploration algorith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207EE-6F50-4C0B-81BD-453D4077741F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Demo:  </a:t>
            </a:r>
            <a:r>
              <a:rPr b="1" lang="en-US" sz="4800" spc="-1" strike="noStrike">
                <a:solidFill>
                  <a:srgbClr val="fdf103"/>
                </a:solidFill>
                <a:latin typeface="Courier New"/>
              </a:rPr>
              <a:t>SEND + MORE = MONEY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244" name="">
            <a:hlinkClick r:id="rId1"/>
          </p:cNvPr>
          <p:cNvSpPr/>
          <p:nvPr/>
        </p:nvSpPr>
        <p:spPr>
          <a:xfrm>
            <a:off x="2523960" y="2219400"/>
            <a:ext cx="3267360" cy="761760"/>
          </a:xfrm>
          <a:custGeom>
            <a:avLst/>
            <a:gdLst>
              <a:gd name="textAreaLeft" fmla="*/ 49320 w 3267360"/>
              <a:gd name="textAreaRight" fmla="*/ 3218040 w 32673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92614" h="21600">
                <a:moveTo>
                  <a:pt x="0" y="0"/>
                </a:moveTo>
                <a:lnTo>
                  <a:pt x="92614" y="0"/>
                </a:lnTo>
                <a:lnTo>
                  <a:pt x="92614" y="21600"/>
                </a:lnTo>
                <a:lnTo>
                  <a:pt x="0" y="21600"/>
                </a:lnTo>
                <a:close/>
              </a:path>
              <a:path fill="lightenLess" w="92614" h="21600">
                <a:moveTo>
                  <a:pt x="0" y="0"/>
                </a:moveTo>
                <a:lnTo>
                  <a:pt x="92614" y="0"/>
                </a:lnTo>
                <a:lnTo>
                  <a:pt x="91214" y="1400"/>
                </a:lnTo>
                <a:lnTo>
                  <a:pt x="1400" y="1400"/>
                </a:lnTo>
                <a:close/>
              </a:path>
              <a:path fill="darken" w="92614" h="21600">
                <a:moveTo>
                  <a:pt x="92614" y="0"/>
                </a:moveTo>
                <a:lnTo>
                  <a:pt x="92614" y="21600"/>
                </a:lnTo>
                <a:lnTo>
                  <a:pt x="91214" y="20200"/>
                </a:lnTo>
                <a:lnTo>
                  <a:pt x="91214" y="1400"/>
                </a:lnTo>
                <a:close/>
              </a:path>
              <a:path fill="darkenLess" w="92614" h="21600">
                <a:moveTo>
                  <a:pt x="9261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214" y="20200"/>
                </a:lnTo>
                <a:close/>
              </a:path>
              <a:path fill="lighten" w="9261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lick here for MONE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6C457-CFA2-4B36-8C99-CD52C5ADF69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10058400" cy="102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Constraint Programming Systems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93560" y="2565360"/>
            <a:ext cx="8350560" cy="365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straint programming librar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ILOG Solver (Puget 1993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nstraint programming languag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STRAINTS (Steele, Sussman 198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HIP (Dincbas, Hentenryck, Simonis, Aggoun 1988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LP(R) (Jaffar, Maher, Stuckey, Yap 199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z (Smolka and others 1995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PL (Hentenryck 1998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223280" y="1168920"/>
            <a:ext cx="626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pport constraint programming wi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gh-level construc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12111-3D4F-47D8-AEE3-645A52F7C836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Today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traint programming in a nutshel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pag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ranch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plor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ther search compon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3048120"/>
            <a:ext cx="7621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9CA96-A26A-4222-98C4-76D978EE3A5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Issues in Propagation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pressivity: What kind of information can be expressed as propagator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pleteness: What behavior can be expected from propagation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fficiency: How much computational resources does propagation consume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D68D5-8D21-46E4-9EB5-5A0700A85CF7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80880" y="26460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Completeness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75960" y="190656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in purpose of propagation is exposure of inconsistenci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consistencies allow to prune the search tre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n implementation is complete with respect to a set of constraints, if inconsistencies between constraints are guaranteed to be exhibited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7C765-1A3E-46C4-99BB-77A226BA749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Thursday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ranching and Exploration in OP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se study: ACC 97/98 Basketball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traint programming techniqu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5153A-45AE-4F4A-A4D5-8B80CFACED80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26460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Completeness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975960" y="190656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eneral arithmetic constraints are undecidable (Hilbert’s Tenth Problem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pleteness is not always possib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Courier New"/>
              </a:rPr>
              <a:t>1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:  n &gt; 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Courier New"/>
              </a:rPr>
              <a:t>2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:  a</a:t>
            </a:r>
            <a:r>
              <a:rPr b="0" lang="en-US" sz="2800" spc="-1" strike="noStrike" baseline="30000">
                <a:solidFill>
                  <a:srgbClr val="eaeaea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+  b</a:t>
            </a:r>
            <a:r>
              <a:rPr b="0" lang="en-US" sz="2800" spc="-1" strike="noStrike" baseline="30000">
                <a:solidFill>
                  <a:srgbClr val="eaeaea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=  c</a:t>
            </a:r>
            <a:r>
              <a:rPr b="0" lang="en-US" sz="2800" spc="-1" strike="noStrike" baseline="30000">
                <a:solidFill>
                  <a:srgbClr val="eaeaea"/>
                </a:solidFill>
                <a:latin typeface="Courier New"/>
              </a:rPr>
              <a:t>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1CDB5-0066-4AEC-9F3A-8EE823D768A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160" y="-360"/>
            <a:ext cx="9220320" cy="101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Basic Constraints vs. Propagators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5600" y="1371600"/>
            <a:ext cx="8528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asic constrai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re conjunctions of constraints of the form 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    x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where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S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s a finite set of integ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njoy complete constraint solv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pagato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n be arbitrarily expressive (arithmetic, symbolic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mplementation typically fast but incomple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4C185D-3AAA-4C63-8998-8679B9B241CC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160" y="-360"/>
            <a:ext cx="9220320" cy="896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Current Domain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55680" y="1098360"/>
            <a:ext cx="8788320" cy="531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et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be basic constraint. For a given variable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x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maximal set 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S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ch that  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c </a:t>
            </a:r>
            <a:r>
              <a:rPr b="0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 x </a:t>
            </a:r>
            <a:r>
              <a:rPr b="0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 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i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istent is called the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current domain of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x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in 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noted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dom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(x)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C: x</a:t>
            </a:r>
            <a:r>
              <a:rPr b="0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{1..10}, y</a:t>
            </a:r>
            <a:r>
              <a:rPr b="0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{9..20},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     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x</a:t>
            </a:r>
            <a:r>
              <a:rPr b="0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{8..12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dom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(y) = {9..20}, dom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(x)={8..10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93861-88B2-461B-BE1F-D84B2993C6A3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8160" y="-360"/>
            <a:ext cx="9220320" cy="101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Domain vs. Interval Consistency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95080" y="1817640"/>
            <a:ext cx="7537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main consistency: Check all elements of the  domains of all variables known to the propag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erval consistency: Check only the boundaries of the domains of the variabl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3ED5E0-D3EE-4C1C-B111-83311B3E05F6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8160" y="-360"/>
            <a:ext cx="9220320" cy="101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Domain Consistency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sume a constraint 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over variables 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and 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basic constraint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s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domain consistent i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with respect to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 if for every 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i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dom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(x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re is a 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j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dom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(y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such that 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(i,j)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d: x + y = 1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c: x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{7,9}, y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{</a:t>
            </a:r>
            <a:r>
              <a:rPr b="0" lang="en-US" sz="2800" spc="-1" strike="noStrike">
                <a:solidFill>
                  <a:srgbClr val="ffccff"/>
                </a:solidFill>
                <a:latin typeface="Courier New"/>
              </a:rPr>
              <a:t>1..20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8ADFE-D8C3-4524-AAC0-5C2D28BA5070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160" y="-360"/>
            <a:ext cx="9220320" cy="101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Domain Consistency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228240" y="137160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sume a constraint 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over variables 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and 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basic constraint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s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domain consistent i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with respect to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 if for every 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i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dom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(x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re is a 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j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dom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(y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such that 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(i,j)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d: x + y = 1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c: x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{7,9}, y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{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1,3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9AFC27-3D1B-4F05-948E-ABD5A315D65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160" y="-360"/>
            <a:ext cx="9220320" cy="101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Interval Consistency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sume a constraint 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over variables 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and 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basic constraint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s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interval consistent i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wit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respect to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 if for 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i=min(dom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(x)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nd f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i=max(dom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(x)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here is a 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j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dom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(y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uch that 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(i,j)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d: x + y = 1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C: x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{7,9}, y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{</a:t>
            </a:r>
            <a:r>
              <a:rPr b="0" lang="en-US" sz="2800" spc="-1" strike="noStrike">
                <a:solidFill>
                  <a:srgbClr val="ffccff"/>
                </a:solidFill>
                <a:latin typeface="Courier New"/>
              </a:rPr>
              <a:t>1..20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793A1B-E207-47C7-8D72-592C4BD0F090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160" y="-360"/>
            <a:ext cx="9220320" cy="101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Interval Consistency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ssume a constraint 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over variables 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and 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y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 basic constraint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is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interval consistent in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wit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eaeaea"/>
                </a:solidFill>
                <a:latin typeface="Times New Roman"/>
              </a:rPr>
              <a:t>respect to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,  if for 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i=min(dom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(x)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and f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i=max(dom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(x)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there is a 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j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dom</a:t>
            </a:r>
            <a:r>
              <a:rPr b="0" lang="en-US" sz="2800" spc="-1" strike="noStrike" baseline="-25000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(y)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uch that 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(i,j)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d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ampl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d: x + y = 1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C: x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{7,9}, y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{</a:t>
            </a:r>
            <a:r>
              <a:rPr b="0" lang="en-US" sz="2800" spc="-1" strike="noStrike">
                <a:solidFill>
                  <a:srgbClr val="ffff00"/>
                </a:solidFill>
                <a:latin typeface="Courier New"/>
              </a:rPr>
              <a:t>1..3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7A387D-1F5D-4295-9D3B-B0AF38364489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8160" y="-360"/>
            <a:ext cx="9220320" cy="101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Domain and Interval Consistency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OPL syntax for all-different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erval consistency: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    alldifferent(l)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main consistency: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     alldifferent(l) domain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44144-B93B-48A5-9781-2B159EDD07B3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Some Propagator Classes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Symbolic propagator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Arithmetic propagators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Reification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7A551-C424-4641-848E-7443BBF21858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Today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traint programming in a nutshel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pag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ranch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plor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ther search compon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2514600"/>
            <a:ext cx="7621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FE2E0-3F5D-4751-9CCA-6D26F6FBDE95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16000" y="506160"/>
            <a:ext cx="8732880" cy="94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Symbolic Propagators</a:t>
            </a:r>
            <a:br>
              <a:rPr sz="4800"/>
            </a:br>
            <a:r>
              <a:rPr b="0" lang="en-US" sz="4000" spc="-1" strike="noStrike">
                <a:solidFill>
                  <a:srgbClr val="fdf103"/>
                </a:solidFill>
                <a:latin typeface="Times New Roman"/>
              </a:rPr>
              <a:t>Example: The “Element” Propagator</a:t>
            </a:r>
            <a:endParaRPr b="0" lang="en-US" sz="40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297000" y="1645920"/>
            <a:ext cx="8609040" cy="467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PL: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array[i] = x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eaning: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x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is the 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i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 element of 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arra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ample: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int a[1..4] = [5,6,7,8]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       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var int i,x in 0..9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       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solve { a[i] = x; 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       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dom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(i)={1,3} </a:t>
            </a:r>
            <a:r>
              <a:rPr b="0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 x </a:t>
            </a:r>
            <a:r>
              <a:rPr b="0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 {5,7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       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dom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(x)={6,8} </a:t>
            </a:r>
            <a:r>
              <a:rPr b="0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 i </a:t>
            </a:r>
            <a:r>
              <a:rPr b="0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 {2,4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672DA9-D3C1-4AD4-B36C-AB745919321D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80880" y="7560"/>
            <a:ext cx="1005840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Arithmetic Propagators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560" y="16462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eneral arithmetic equation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i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x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Courier New"/>
              </a:rPr>
              <a:t>11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…*x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Courier New"/>
              </a:rPr>
              <a:t>1m</a:t>
            </a:r>
            <a:r>
              <a:rPr b="0" lang="en-US" sz="2400" spc="-1" strike="noStrike" baseline="-40000">
                <a:solidFill>
                  <a:srgbClr val="eaeaea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+ … + i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x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Courier New"/>
              </a:rPr>
              <a:t>n1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…*x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Courier New"/>
              </a:rPr>
              <a:t>nm</a:t>
            </a:r>
            <a:r>
              <a:rPr b="0" lang="en-US" sz="2400" spc="-1" strike="noStrike" baseline="-40000">
                <a:solidFill>
                  <a:srgbClr val="eaeaea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= 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                     </a:t>
            </a:r>
            <a:r>
              <a:rPr b="0" lang="en-US" sz="2400" spc="-1" strike="noStrike">
                <a:solidFill>
                  <a:srgbClr val="ff6633"/>
                </a:solidFill>
                <a:latin typeface="Courier New"/>
              </a:rPr>
              <a:t>&lt;  &gt;  &lt;=  &gt;=  &lt;&gt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2ADE51-7432-4107-9110-C96326B1C3C7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80880" y="7560"/>
            <a:ext cx="1005840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Reified Constraints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577360" cy="441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flecting the validity of a constraint in a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0/1 variabl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ample: Reified arithmetic equa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x  = (i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x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Courier New"/>
              </a:rPr>
              <a:t>11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…*x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Courier New"/>
              </a:rPr>
              <a:t>1m</a:t>
            </a:r>
            <a:r>
              <a:rPr b="0" lang="en-US" sz="2400" spc="-1" strike="noStrike" baseline="-40000">
                <a:solidFill>
                  <a:srgbClr val="eaeaea"/>
                </a:solidFill>
                <a:latin typeface="Courier New"/>
              </a:rPr>
              <a:t>1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+ … + i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x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Courier New"/>
              </a:rPr>
              <a:t>n1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…*x</a:t>
            </a:r>
            <a:r>
              <a:rPr b="0" lang="en-US" sz="2400" spc="-1" strike="noStrike" baseline="-25000">
                <a:solidFill>
                  <a:srgbClr val="eaeaea"/>
                </a:solidFill>
                <a:latin typeface="Courier New"/>
              </a:rPr>
              <a:t>nm</a:t>
            </a:r>
            <a:r>
              <a:rPr b="0" lang="en-US" sz="2400" spc="-1" strike="noStrike" baseline="-40000">
                <a:solidFill>
                  <a:srgbClr val="eaeaea"/>
                </a:solidFill>
                <a:latin typeface="Courier New"/>
              </a:rPr>
              <a:t>n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= 0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                           </a:t>
            </a:r>
            <a:r>
              <a:rPr b="0" lang="en-US" sz="2400" spc="-1" strike="noStrike">
                <a:solidFill>
                  <a:srgbClr val="ff6633"/>
                </a:solidFill>
                <a:latin typeface="Courier New"/>
              </a:rPr>
              <a:t>&lt;  &gt;  &lt;=  &gt;=  &lt;&gt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68720" y="1406520"/>
            <a:ext cx="811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BA61E-4928-46F5-AF0E-82082B8146FB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80880" y="7560"/>
            <a:ext cx="1005840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Propagation vs Branching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577360" cy="441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rade-off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plex propagation algorithms incu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ewer, but more expensive nodes in tre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ample: 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MONEY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wit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68720" y="1406520"/>
            <a:ext cx="811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>
            <a:hlinkClick r:id="rId1"/>
          </p:cNvPr>
          <p:cNvSpPr/>
          <p:nvPr/>
        </p:nvSpPr>
        <p:spPr>
          <a:xfrm>
            <a:off x="0" y="4572000"/>
            <a:ext cx="2819520" cy="1523880"/>
          </a:xfrm>
          <a:custGeom>
            <a:avLst/>
            <a:gdLst>
              <a:gd name="textAreaLeft" fmla="*/ 98640 w 2819520"/>
              <a:gd name="textAreaRight" fmla="*/ 2720880 w 281952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39961" h="21600">
                <a:moveTo>
                  <a:pt x="0" y="0"/>
                </a:moveTo>
                <a:lnTo>
                  <a:pt x="39961" y="0"/>
                </a:lnTo>
                <a:lnTo>
                  <a:pt x="39961" y="21600"/>
                </a:lnTo>
                <a:lnTo>
                  <a:pt x="0" y="21600"/>
                </a:lnTo>
                <a:close/>
              </a:path>
              <a:path fill="lightenLess" w="39961" h="21600">
                <a:moveTo>
                  <a:pt x="0" y="0"/>
                </a:moveTo>
                <a:lnTo>
                  <a:pt x="39961" y="0"/>
                </a:lnTo>
                <a:lnTo>
                  <a:pt x="38561" y="1400"/>
                </a:lnTo>
                <a:lnTo>
                  <a:pt x="1400" y="1400"/>
                </a:lnTo>
                <a:close/>
              </a:path>
              <a:path fill="darken" w="39961" h="21600">
                <a:moveTo>
                  <a:pt x="39961" y="0"/>
                </a:moveTo>
                <a:lnTo>
                  <a:pt x="39961" y="21600"/>
                </a:lnTo>
                <a:lnTo>
                  <a:pt x="38561" y="20200"/>
                </a:lnTo>
                <a:lnTo>
                  <a:pt x="38561" y="1400"/>
                </a:lnTo>
                <a:close/>
              </a:path>
              <a:path fill="darkenLess" w="39961" h="21600">
                <a:moveTo>
                  <a:pt x="3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561" y="20200"/>
                </a:lnTo>
                <a:close/>
              </a:path>
              <a:path fill="lighten" w="3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alldiff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sum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only test fixe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assignmen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>
            <a:hlinkClick r:id="rId2"/>
          </p:cNvPr>
          <p:cNvSpPr/>
          <p:nvPr/>
        </p:nvSpPr>
        <p:spPr>
          <a:xfrm>
            <a:off x="3200400" y="4572000"/>
            <a:ext cx="2819520" cy="1523880"/>
          </a:xfrm>
          <a:custGeom>
            <a:avLst/>
            <a:gdLst>
              <a:gd name="textAreaLeft" fmla="*/ 98640 w 2819520"/>
              <a:gd name="textAreaRight" fmla="*/ 2720880 w 281952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39961" h="21600">
                <a:moveTo>
                  <a:pt x="0" y="0"/>
                </a:moveTo>
                <a:lnTo>
                  <a:pt x="39961" y="0"/>
                </a:lnTo>
                <a:lnTo>
                  <a:pt x="39961" y="21600"/>
                </a:lnTo>
                <a:lnTo>
                  <a:pt x="0" y="21600"/>
                </a:lnTo>
                <a:close/>
              </a:path>
              <a:path fill="lightenLess" w="39961" h="21600">
                <a:moveTo>
                  <a:pt x="0" y="0"/>
                </a:moveTo>
                <a:lnTo>
                  <a:pt x="39961" y="0"/>
                </a:lnTo>
                <a:lnTo>
                  <a:pt x="38561" y="1400"/>
                </a:lnTo>
                <a:lnTo>
                  <a:pt x="1400" y="1400"/>
                </a:lnTo>
                <a:close/>
              </a:path>
              <a:path fill="darken" w="39961" h="21600">
                <a:moveTo>
                  <a:pt x="39961" y="0"/>
                </a:moveTo>
                <a:lnTo>
                  <a:pt x="39961" y="21600"/>
                </a:lnTo>
                <a:lnTo>
                  <a:pt x="38561" y="20200"/>
                </a:lnTo>
                <a:lnTo>
                  <a:pt x="38561" y="1400"/>
                </a:lnTo>
                <a:close/>
              </a:path>
              <a:path fill="darkenLess" w="39961" h="21600">
                <a:moveTo>
                  <a:pt x="3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561" y="20200"/>
                </a:lnTo>
                <a:close/>
              </a:path>
              <a:path fill="lighten" w="3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alldiff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: wai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for fixed variabl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sum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: interval con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>
            <a:hlinkClick r:id="rId3"/>
          </p:cNvPr>
          <p:cNvSpPr/>
          <p:nvPr/>
        </p:nvSpPr>
        <p:spPr>
          <a:xfrm>
            <a:off x="6324480" y="4572000"/>
            <a:ext cx="2819520" cy="1523880"/>
          </a:xfrm>
          <a:custGeom>
            <a:avLst/>
            <a:gdLst>
              <a:gd name="textAreaLeft" fmla="*/ 98640 w 2819520"/>
              <a:gd name="textAreaRight" fmla="*/ 2720880 w 281952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39961" h="21600">
                <a:moveTo>
                  <a:pt x="0" y="0"/>
                </a:moveTo>
                <a:lnTo>
                  <a:pt x="39961" y="0"/>
                </a:lnTo>
                <a:lnTo>
                  <a:pt x="39961" y="21600"/>
                </a:lnTo>
                <a:lnTo>
                  <a:pt x="0" y="21600"/>
                </a:lnTo>
                <a:close/>
              </a:path>
              <a:path fill="lightenLess" w="39961" h="21600">
                <a:moveTo>
                  <a:pt x="0" y="0"/>
                </a:moveTo>
                <a:lnTo>
                  <a:pt x="39961" y="0"/>
                </a:lnTo>
                <a:lnTo>
                  <a:pt x="38561" y="1400"/>
                </a:lnTo>
                <a:lnTo>
                  <a:pt x="1400" y="1400"/>
                </a:lnTo>
                <a:close/>
              </a:path>
              <a:path fill="darken" w="39961" h="21600">
                <a:moveTo>
                  <a:pt x="39961" y="0"/>
                </a:moveTo>
                <a:lnTo>
                  <a:pt x="39961" y="21600"/>
                </a:lnTo>
                <a:lnTo>
                  <a:pt x="38561" y="20200"/>
                </a:lnTo>
                <a:lnTo>
                  <a:pt x="38561" y="1400"/>
                </a:lnTo>
                <a:close/>
              </a:path>
              <a:path fill="darkenLess" w="39961" h="21600">
                <a:moveTo>
                  <a:pt x="3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561" y="20200"/>
                </a:lnTo>
                <a:close/>
              </a:path>
              <a:path fill="lighten" w="3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alldiff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and </a:t>
            </a:r>
            <a:r>
              <a:rPr b="1" lang="en-GB" sz="2400" spc="-1" strike="noStrike">
                <a:solidFill>
                  <a:srgbClr val="ff0000"/>
                </a:solidFill>
                <a:latin typeface="Courier New"/>
              </a:rPr>
              <a:t>sum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doma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consistenc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60906-6DEB-45CA-8B97-616F12A7B65B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Today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traint programming in a nutshel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pag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ranch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plor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ther search compon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3657600"/>
            <a:ext cx="7621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C3E7C-CE3A-44C3-8E2C-71194361683C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100584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Branching Algorithms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965160" y="1511280"/>
            <a:ext cx="7416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traint programming systems come wit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ibraries of predefined branching algorith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gramming support for user-defined branching algorith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6C7FC-BF4F-4014-826E-F18EAA160291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120" y="0"/>
            <a:ext cx="92199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Branching for  </a:t>
            </a:r>
            <a:r>
              <a:rPr b="1" lang="en-US" sz="4800" spc="-1" strike="noStrike">
                <a:solidFill>
                  <a:srgbClr val="fdf103"/>
                </a:solidFill>
                <a:latin typeface="Courier New"/>
              </a:rPr>
              <a:t>MONEY</a:t>
            </a: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72880" y="1143000"/>
            <a:ext cx="887112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num Letter {S,E,N,D,M,O,R,Y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var int l[Letter] in 0..9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olv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alldifferent(l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[S] &lt;&gt; 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[M] &lt;&gt; 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[S]*1000 + l[E]*100 + l[N]*10 + l[D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+              l[M]*1000 + l[O]*100 + l[R]*10 + l[E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= l[M]*10000 + l[O]*1000 + l[N]*100 + l[E]*10 + l[Y] 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search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forall(i in Lett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ordered by increasing dsize(l[i]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tryall(v in 0..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l[i] = v; }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arlett"/>
                <a:ea typeface="Marlett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l Solutions; Executio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Ru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859F9-1A68-46AE-A0EE-A54B968EAE89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100584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Basic Choice Points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990360" y="1447560"/>
            <a:ext cx="7073640" cy="38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try x &lt; y  |  x &gt;= y endtry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657600" y="2362320"/>
            <a:ext cx="1600200" cy="1371600"/>
          </a:xfrm>
          <a:prstGeom prst="ellipse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4495680"/>
            <a:ext cx="1600200" cy="1371600"/>
          </a:xfrm>
          <a:prstGeom prst="ellipse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562720" y="4419720"/>
            <a:ext cx="1600200" cy="1371600"/>
          </a:xfrm>
          <a:prstGeom prst="ellipse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2895480" y="3581280"/>
            <a:ext cx="1067040" cy="10670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4952520" y="3581280"/>
            <a:ext cx="838440" cy="9907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423160" y="36482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x &lt; 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10800" y="36576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x &gt;= 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541ACA-B3D4-45CC-B6D8-91242FD90D24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Choice Point Sequences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90360" y="1218960"/>
            <a:ext cx="7073640" cy="387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try x &lt; y  |  x &gt;= y endtry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try z = 1  |  z =  2 endtry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35400" y="2514600"/>
            <a:ext cx="1052640" cy="835200"/>
          </a:xfrm>
          <a:prstGeom prst="ellipse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071800" y="3781440"/>
            <a:ext cx="1052280" cy="834840"/>
          </a:xfrm>
          <a:prstGeom prst="ellipse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186600" y="3778200"/>
            <a:ext cx="1052280" cy="835200"/>
          </a:xfrm>
          <a:prstGeom prst="ellipse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2924280" y="3168720"/>
            <a:ext cx="1433520" cy="7063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 flipV="1">
            <a:off x="5271840" y="3168360"/>
            <a:ext cx="1143000" cy="6858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682000" y="31575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x &lt; 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82400" y="315756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x &gt;= 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39720" y="5151600"/>
            <a:ext cx="1052640" cy="834840"/>
          </a:xfrm>
          <a:prstGeom prst="ellipse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44680" y="5105520"/>
            <a:ext cx="1052640" cy="834840"/>
          </a:xfrm>
          <a:prstGeom prst="ellipse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1537920" y="4562640"/>
            <a:ext cx="700200" cy="65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H="1" flipV="1">
            <a:off x="2890800" y="4562280"/>
            <a:ext cx="550800" cy="603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959760" y="4495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z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201120" y="4495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z =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768920" y="5151600"/>
            <a:ext cx="1052280" cy="834840"/>
          </a:xfrm>
          <a:prstGeom prst="ellipse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373880" y="5105520"/>
            <a:ext cx="1052640" cy="834840"/>
          </a:xfrm>
          <a:prstGeom prst="ellipse">
            <a:avLst/>
          </a:prstGeom>
          <a:solidFill>
            <a:srgbClr val="0066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5667480" y="4562640"/>
            <a:ext cx="699840" cy="6508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7020000" y="4562280"/>
            <a:ext cx="550800" cy="603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074560" y="4495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z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330320" y="4495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z = 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8A69C-B0C8-4CFE-A602-31A6E48C87D0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100584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Abbreviation: </a:t>
            </a:r>
            <a:r>
              <a:rPr b="1" lang="en-US" sz="4800" spc="-1" strike="noStrike">
                <a:solidFill>
                  <a:srgbClr val="fdf103"/>
                </a:solidFill>
                <a:latin typeface="Courier New"/>
              </a:rPr>
              <a:t>tryall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387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tryall(i in 1..5) x = i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stands for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try x=1|x=2|x=3|x=4|x=5 endtry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B9D4F-0EDC-4ABB-AB8A-144E9E1C6CE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564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Constraint Programming in a Nutshell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682640" y="2687760"/>
            <a:ext cx="692784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Courier New"/>
              </a:rPr>
              <a:t>SEND </a:t>
            </a:r>
            <a:r>
              <a:rPr b="1" lang="en-US" sz="4400" spc="-1" strike="noStrike">
                <a:solidFill>
                  <a:srgbClr val="ff9966"/>
                </a:solidFill>
                <a:latin typeface="Courier New"/>
              </a:rPr>
              <a:t> </a:t>
            </a:r>
            <a:r>
              <a:rPr b="1" lang="en-US" sz="4400" spc="-1" strike="noStrike">
                <a:solidFill>
                  <a:srgbClr val="eaeaea"/>
                </a:solidFill>
                <a:latin typeface="Courier New"/>
              </a:rPr>
              <a:t> MORE  </a:t>
            </a:r>
            <a:r>
              <a:rPr b="1" lang="en-US" sz="4400" spc="-1" strike="noStrike">
                <a:solidFill>
                  <a:srgbClr val="ff9966"/>
                </a:solidFill>
                <a:latin typeface="Courier New"/>
              </a:rPr>
              <a:t> </a:t>
            </a:r>
            <a:r>
              <a:rPr b="1" lang="en-US" sz="4400" spc="-1" strike="noStrike">
                <a:solidFill>
                  <a:srgbClr val="eaeaea"/>
                </a:solidFill>
                <a:latin typeface="Courier New"/>
              </a:rPr>
              <a:t> MONEY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E49E2E-B7C9-4B87-9ED5-1055E85D9E6F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Abbreviation: </a:t>
            </a:r>
            <a:r>
              <a:rPr b="1" lang="en-US" sz="4800" spc="-1" strike="noStrike">
                <a:solidFill>
                  <a:srgbClr val="fdf103"/>
                </a:solidFill>
                <a:latin typeface="Courier New"/>
              </a:rPr>
              <a:t>forall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7772400" cy="387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forall(i in 1..4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try a[i]=0 | a[i]=1 endtry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Times New Roman"/>
              </a:rPr>
              <a:t>stands for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try a[1] = 0 | a[1] = 1 endtry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try a[2] = 0 | a[2] = 1 endtry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try a[3] = 0 | a[3] = 1 endtry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try a[4] = 0 | a[4] = 1 endtry;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195DC-1A11-4F52-966B-B03229164ACF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Examples of Branching Algorithms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120" y="11430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umeration:  Choose variable, choose valu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aive enumeration:                                                  choose variables and values in a fixed seque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rst-fail enumeration:                                            choose a variable with minimal domain siz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omain-splitting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try x &lt; mid | x &gt;= mid endtry;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ask sequencing for schedul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42E08-1795-4CDD-BBB1-67C8C7319A72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Today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traint programming in a nutshel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pag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ranch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plor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ther search compon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4267080"/>
            <a:ext cx="7621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6BA747-EA95-4190-8D7C-4BD573EF71C0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120" y="0"/>
            <a:ext cx="92199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Exploration for  </a:t>
            </a:r>
            <a:r>
              <a:rPr b="1" lang="en-US" sz="4800" spc="-1" strike="noStrike">
                <a:solidFill>
                  <a:srgbClr val="fdf103"/>
                </a:solidFill>
                <a:latin typeface="Courier New"/>
              </a:rPr>
              <a:t>MONEY</a:t>
            </a: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2880" y="1143000"/>
            <a:ext cx="8871120" cy="52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num Letter {S,E,N,D,M,O,R,Y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var int l[Letter] in 0..9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olv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alldifferent(l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[S] &lt;&gt; 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[M] &lt;&gt; 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[S]*1000 + l[E]*100 + l[N]*10 + l[D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+              l[M]*1000 + l[O]*100 + l[R]*10 + l[E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= l[M]*10000 + l[O]*1000 + l[N]*100 + l[E]*10 + l[Y] 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arch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forall(i in Lett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ordered by increasing dsize(l[i]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ryall(v in 0..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[i] = v; 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ff"/>
                </a:solidFill>
                <a:latin typeface="Marlett"/>
                <a:ea typeface="Marlett"/>
              </a:rPr>
              <a:t>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All Solutions; Execution </a:t>
            </a:r>
            <a:r>
              <a:rPr b="1" lang="en-US" sz="2800" spc="-1" strike="noStrike">
                <a:solidFill>
                  <a:srgbClr val="ff00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ff00ff"/>
                </a:solidFill>
                <a:latin typeface="Times New Roman"/>
              </a:rPr>
              <a:t> Ru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5082B-8547-4F35-92D9-AE562E2F6103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Exploration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pth-first search (default in OPL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est-first searc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mited discrepancy search [Harvey/Ginsberg 95]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r-defined explora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A299F-9AB7-4637-BCAB-CB164FF41F27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120" y="0"/>
            <a:ext cx="92199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Specifying Exploration in OPL 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4680" y="1447920"/>
            <a:ext cx="88675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num Letter {S,E,N,D,M,O,T,Y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var int l[Letter] in 0..9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olv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alldifferent(l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[S] &lt;&gt; 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[M] &lt;&gt; 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[S]*1000 + l[E]*100 + l[N]*10 + l[D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+              l[M]*1000 + l[O]*100 + l[S]*10 + l[T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= l[M]*10000 + l[O]*1000 + l[N]*100 + l[E]*10 + l[Y] 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arch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LDSearch(4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forall(i in Letter ordered by increasing dsize(l[i]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ryall(v in 0..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[i] = v; 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536E0-A69D-4646-8864-72C1CF139BC9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Today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traint programming in a nutshel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pag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ranch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plor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ther search compon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4876920"/>
            <a:ext cx="7621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94AB6B-B82B-44C3-91D2-552B8FAF7CA2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Other Search Components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447560" y="1447920"/>
            <a:ext cx="739116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ptimiz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era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isualiza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arch Limi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12885-ABC1-418C-B050-82EE42392A64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42720" y="564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Optimization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682640" y="2687760"/>
            <a:ext cx="692784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Courier New"/>
              </a:rPr>
              <a:t>SEND </a:t>
            </a:r>
            <a:r>
              <a:rPr b="1" lang="en-US" sz="4400" spc="-1" strike="noStrike">
                <a:solidFill>
                  <a:srgbClr val="ff9966"/>
                </a:solidFill>
                <a:latin typeface="Courier New"/>
              </a:rPr>
              <a:t>+</a:t>
            </a:r>
            <a:r>
              <a:rPr b="1" lang="en-US" sz="4400" spc="-1" strike="noStrike">
                <a:solidFill>
                  <a:srgbClr val="eaeaea"/>
                </a:solidFill>
                <a:latin typeface="Courier New"/>
              </a:rPr>
              <a:t> MOST  </a:t>
            </a:r>
            <a:r>
              <a:rPr b="1" lang="en-US" sz="4400" spc="-1" strike="noStrike">
                <a:solidFill>
                  <a:srgbClr val="ff9966"/>
                </a:solidFill>
                <a:latin typeface="Courier New"/>
              </a:rPr>
              <a:t>=</a:t>
            </a:r>
            <a:r>
              <a:rPr b="1" lang="en-US" sz="4400" spc="-1" strike="noStrike">
                <a:solidFill>
                  <a:srgbClr val="eaeaea"/>
                </a:solidFill>
                <a:latin typeface="Courier New"/>
              </a:rPr>
              <a:t> MONEY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CC720-3F82-4727-831D-8057BA750F71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0120" y="0"/>
            <a:ext cx="92199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Optimization in OPL 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74680" y="1447920"/>
            <a:ext cx="886752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num Letter {S,E,N,D,M,O,T,Y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var int l[Letter] in 0..9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maximize money subject to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money = l[M]*10000+l[O]*1000+l[N]*100+l[E]*10+l[Y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alldifferent(l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l[S] &lt;&gt; 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l[M] &lt;&gt; 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                 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l[S]*1000 + l[E]*100 + l[N]*10 + l[D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+              l[M]*1000 + l[O]*100 + l[S]*10 + l[T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= l[M]*10000 + l[O]*1000 + l[N]*100 + l[E]*10 + l[Y] 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arch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forall(i in Letter ordered by increasing dsize(l[i]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ryall(v in 0..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[i] = v; 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arlett"/>
                <a:ea typeface="Marlett"/>
              </a:rPr>
              <a:t>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l Solutions; Execution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R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DC89E-303D-457A-8F19-AC031331B9C5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564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Constraint Programming in a Nutshell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682640" y="2687760"/>
            <a:ext cx="692784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Courier New"/>
              </a:rPr>
              <a:t>SEND </a:t>
            </a:r>
            <a:r>
              <a:rPr b="1" lang="en-US" sz="4400" spc="-1" strike="noStrike">
                <a:solidFill>
                  <a:srgbClr val="ff9966"/>
                </a:solidFill>
                <a:latin typeface="Courier New"/>
              </a:rPr>
              <a:t>+</a:t>
            </a:r>
            <a:r>
              <a:rPr b="1" lang="en-US" sz="4400" spc="-1" strike="noStrike">
                <a:solidFill>
                  <a:srgbClr val="eaeaea"/>
                </a:solidFill>
                <a:latin typeface="Courier New"/>
              </a:rPr>
              <a:t> MORE  </a:t>
            </a:r>
            <a:r>
              <a:rPr b="1" lang="en-US" sz="4400" spc="-1" strike="noStrike">
                <a:solidFill>
                  <a:srgbClr val="ff9966"/>
                </a:solidFill>
                <a:latin typeface="Courier New"/>
              </a:rPr>
              <a:t>=</a:t>
            </a:r>
            <a:r>
              <a:rPr b="1" lang="en-US" sz="4400" spc="-1" strike="noStrike">
                <a:solidFill>
                  <a:srgbClr val="eaeaea"/>
                </a:solidFill>
                <a:latin typeface="Courier New"/>
              </a:rPr>
              <a:t> MONEY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A27C12-C691-4E68-91B8-4A0C878571ED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Interaction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rst-solution searc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l solution searc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ast solution searc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arch with user interactio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D65F7-3C31-4F19-B1BF-A0E3486FFF97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Visualization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ample: Oz Explorer [Schulte 1997]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z Explorer combin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isualiz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first/all solution / user intera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ranch-and-bound optimiz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pth-first searc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9BAEC-3445-45E3-B58A-ECB250ADB51A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42720" y="564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Search Limits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682640" y="2687760"/>
            <a:ext cx="692784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Courier New"/>
              </a:rPr>
              <a:t>SEND </a:t>
            </a:r>
            <a:r>
              <a:rPr b="1" lang="en-US" sz="4000" spc="-1" strike="noStrike">
                <a:solidFill>
                  <a:srgbClr val="ff9966"/>
                </a:solidFill>
                <a:latin typeface="Courier New"/>
              </a:rPr>
              <a:t>+</a:t>
            </a:r>
            <a:r>
              <a:rPr b="1" lang="en-US" sz="4000" spc="-1" strike="noStrike">
                <a:solidFill>
                  <a:srgbClr val="eaeaea"/>
                </a:solidFill>
                <a:latin typeface="Courier New"/>
              </a:rPr>
              <a:t> MOST  </a:t>
            </a:r>
            <a:r>
              <a:rPr b="1" lang="en-US" sz="4000" spc="-1" strike="noStrike">
                <a:solidFill>
                  <a:srgbClr val="ff9966"/>
                </a:solidFill>
                <a:latin typeface="Courier New"/>
              </a:rPr>
              <a:t>=</a:t>
            </a:r>
            <a:r>
              <a:rPr b="1" lang="en-US" sz="4000" spc="-1" strike="noStrike">
                <a:solidFill>
                  <a:srgbClr val="eaeaea"/>
                </a:solidFill>
                <a:latin typeface="Courier New"/>
              </a:rPr>
              <a:t> MONEY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imes New Roman"/>
              </a:rPr>
              <a:t>but don’t spend more than 10 hours searching!!!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54B92-7F21-407A-B9F7-8936D8A39B82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0120" y="0"/>
            <a:ext cx="92199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Search Limits in OPL 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680" y="990720"/>
            <a:ext cx="886752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num Letter {S,E,N,D,M,O,T,Y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var int l[Letter] in 0..9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aximize money subject to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oney = l[M]*10000+l[O]*1000+l[N]*100+l[E]*10+l[Y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alldifferent(l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[S] &lt;&gt; 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[M] &lt;&gt; 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[S]*1000 + l[E]*100 + l[N]*10 + l[D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+              l[M]*1000 + l[O]*100 + l[S]*10 + l[T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= l[M]*10000 + l[O]*1000 + l[N]*100 + l[E]*10 + l[Y] 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arch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timeLimit 360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forall(i in Letter ordered by increasing dsize(l[i]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ryall(v in 0..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[i] = v; 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arlett"/>
                <a:ea typeface="Marlett"/>
              </a:rPr>
              <a:t>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l Solutions; Execution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R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1DEA5-74B4-46CE-962E-68C861481CB0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Thursday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ranching and Exploration in OP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se study: ACC 97/98 Basketball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traint programming techniqu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FB946-D636-4A2A-83F4-5A7A1948BF36}" type="slidenum">
              <a:t>64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134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df103"/>
                </a:solidFill>
                <a:latin typeface="Courier New"/>
              </a:rPr>
              <a:t>SEND + MORE = MONEY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62120" y="2133360"/>
            <a:ext cx="772776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sign distinct digits to the lett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E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 N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 D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 M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 O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 R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 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ch th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         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S E N 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     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+   M O R 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     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= M O N E Y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ld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320920" y="5337000"/>
            <a:ext cx="276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F2B03-C7B1-498A-BF05-A5D7BA8FCF6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160" y="-360"/>
            <a:ext cx="922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df103"/>
                </a:solidFill>
                <a:latin typeface="Courier New"/>
              </a:rPr>
              <a:t>SEND + MORE = MONEY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772812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Assign distinct digits to the lette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6699ff"/>
                </a:solidFill>
                <a:latin typeface="Courier New"/>
              </a:rPr>
              <a:t>E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6699ff"/>
                </a:solidFill>
                <a:latin typeface="Courier New"/>
              </a:rPr>
              <a:t> N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6699ff"/>
                </a:solidFill>
                <a:latin typeface="Courier New"/>
              </a:rPr>
              <a:t> D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6699ff"/>
                </a:solidFill>
                <a:latin typeface="Courier New"/>
              </a:rPr>
              <a:t> M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6699ff"/>
                </a:solidFill>
                <a:latin typeface="Courier New"/>
              </a:rPr>
              <a:t> O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6699ff"/>
                </a:solidFill>
                <a:latin typeface="Courier New"/>
              </a:rPr>
              <a:t> R</a:t>
            </a: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6699ff"/>
                </a:solidFill>
                <a:latin typeface="Courier New"/>
              </a:rPr>
              <a:t> 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such that          </a:t>
            </a:r>
            <a:r>
              <a:rPr b="0" lang="en-US" sz="3200" spc="-1" strike="noStrike">
                <a:solidFill>
                  <a:srgbClr val="6699ff"/>
                </a:solidFill>
                <a:latin typeface="Courier New"/>
              </a:rPr>
              <a:t>S E N D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Courier New"/>
              </a:rPr>
              <a:t>      </a:t>
            </a:r>
            <a:r>
              <a:rPr b="0" lang="en-US" sz="3200" spc="-1" strike="noStrike">
                <a:solidFill>
                  <a:srgbClr val="6699ff"/>
                </a:solidFill>
                <a:latin typeface="Courier New"/>
              </a:rPr>
              <a:t>+   M O R 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Courier New"/>
              </a:rPr>
              <a:t>     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Courier New"/>
              </a:rPr>
              <a:t>      </a:t>
            </a:r>
            <a:r>
              <a:rPr b="0" lang="en-US" sz="3200" spc="-1" strike="noStrike">
                <a:solidFill>
                  <a:srgbClr val="6699ff"/>
                </a:solidFill>
                <a:latin typeface="Courier New"/>
              </a:rPr>
              <a:t>= M O N E 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99ff"/>
                </a:solidFill>
                <a:latin typeface="Times New Roman"/>
              </a:rPr>
              <a:t>hold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267080" y="1676520"/>
            <a:ext cx="487692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 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lu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         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9 5 6 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     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+   1 0 8 5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     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= 1 0 6 5 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43280" y="4324320"/>
            <a:ext cx="2761920" cy="0"/>
          </a:xfrm>
          <a:prstGeom prst="line">
            <a:avLst/>
          </a:prstGeom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810400" y="4324320"/>
            <a:ext cx="27622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B49FC-F5D1-42C6-81D2-D094EEBD109C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Modeling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rmalize the problem as a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constraint problem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n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ariabl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m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traints: 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Courier New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,…,c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Courier New"/>
              </a:rPr>
              <a:t>m </a:t>
            </a:r>
            <a:r>
              <a:rPr b="0" lang="en-US" sz="3200" spc="-1" strike="noStrike" baseline="12000">
                <a:solidFill>
                  <a:srgbClr val="eaeaea"/>
                </a:solidFill>
                <a:latin typeface="Symbol"/>
                <a:ea typeface="Symbol"/>
              </a:rPr>
              <a:t>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</a:t>
            </a:r>
            <a:r>
              <a:rPr b="0" lang="en-US" sz="3200" spc="-1" strike="noStrike" baseline="30000">
                <a:solidFill>
                  <a:srgbClr val="eaeaea"/>
                </a:solidFill>
                <a:latin typeface="Courier New"/>
              </a:rPr>
              <a:t>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blem: Find  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a =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(v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Courier New"/>
              </a:rPr>
              <a:t>1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,…,v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Courier New"/>
              </a:rPr>
              <a:t>n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)</a:t>
            </a:r>
            <a:r>
              <a:rPr b="0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</a:t>
            </a:r>
            <a:r>
              <a:rPr b="0" lang="en-US" sz="3200" spc="-1" strike="noStrike" baseline="30000">
                <a:solidFill>
                  <a:srgbClr val="eaeaea"/>
                </a:solidFill>
                <a:latin typeface="Courier New"/>
              </a:rPr>
              <a:t>n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ch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             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at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a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 c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Courier New"/>
              </a:rPr>
              <a:t>i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r all 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1 </a:t>
            </a:r>
            <a:r>
              <a:rPr b="0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 i </a:t>
            </a:r>
            <a:r>
              <a:rPr b="0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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 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ES (c) NUS                                                                                                   SMA 5223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5FB86-F5E4-49D6-9409-1AA9AEA07F9F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artin Henz</dc:creator>
  <dc:description/>
  <dc:language>en-US</dc:language>
  <cp:lastModifiedBy>SOC </cp:lastModifiedBy>
  <cp:lastPrinted>2000-02-14T20:31:54Z</cp:lastPrinted>
  <dcterms:modified xsi:type="dcterms:W3CDTF">2001-03-13T12:12:42Z</dcterms:modified>
  <cp:revision>550</cp:revision>
  <dc:subject/>
  <dc:title>Intention-based Music Composition through C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My Documents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