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</p:sldIdLst>
  <p:sldSz cx="9144000" cy="6858000"/>
  <p:notesSz cx="6757988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FE6A0-8F9E-4064-934B-0E9FE974D1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47A38-FD0A-4D14-AB97-AF008A847B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31E66-63AC-4755-9E94-DBB3F26BCF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8B2CBE-FD34-4507-9EDC-11A880587A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383E70-6955-455A-8DC0-B1F1F210B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7A337B-90FC-47D8-8C4C-187CE6539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11558A-68E9-45BD-87CB-FE42A4BF8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B66AA8-B287-4703-918F-72FCE61F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D3CD05-30ED-4E1E-98BD-68DDE41ED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-380880" y="0"/>
            <a:ext cx="10058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29BB73-0160-4917-BEBD-E5377DFD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4FBBAC-2E08-4613-8B0C-E5ED716D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3A7D7-0F48-4770-9ECA-33990EB2CA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23C270-9463-4A77-9283-6F818AFC3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57B850C-1D49-4EF1-9320-CE200127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CDA39D-C057-45CE-B8E6-11409ABF9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910CA1-3B67-4D47-9B55-C3E5AEE2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788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0760" y="167652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3464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788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60760" y="3826080"/>
            <a:ext cx="2488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5E9FB-2589-4DCA-9CBF-8B95FFC78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E84A08-D920-4EE2-8A10-C52E7F86C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1AF37-D135-4C2B-8422-6ABAA9D827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AB6ED-B6A8-4650-A46B-18511E584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80880" y="0"/>
            <a:ext cx="10058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A0FED3-82AE-49CD-A517-EAAE0B9EE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465AD8-D725-4D60-86A6-31A5073199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4640" y="382608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8DDB-732A-4C61-8BFD-7D30DF8F01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3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4640" y="1676520"/>
            <a:ext cx="37710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34640" y="3826080"/>
            <a:ext cx="7728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E6E57E-41E4-4780-ACD0-88360EB2F6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04920" y="0"/>
            <a:ext cx="7924680" cy="1371600"/>
          </a:xfrm>
          <a:prstGeom prst="rect">
            <a:avLst/>
          </a:prstGeom>
          <a:noFill/>
          <a:ln w="1260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03464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6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89154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995F3-4841-4841-AC90-58D2CBDA4998}" type="slidenum"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D51D-9A04-4CE2-B627-9458698CE8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Marlett" charset="2"/>
              <a:buChar char="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Marlett" charset="2"/>
              <a:buChar char="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&quot;c:\Program Files\Mozart\bin\ozenginew&quot; c:\henz\talks\sma2001\programs\most_money.ozf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c:\friartuck\bin\ozenginew c:\henz\talks\sma2001\programs\grocery1.ozf" TargetMode="External"/><Relationship Id="rId2" Type="http://schemas.openxmlformats.org/officeDocument/2006/relationships/hyperlink" Target="c:\friartuck\bin\ozenginew c:\henz\talks\sma2001\programs\grocery2.ozf" TargetMode="External"/><Relationship Id="rId3" Type="http://schemas.openxmlformats.org/officeDocument/2006/relationships/hyperlink" Target="&quot;c:\Program Files\Mozart\bin\ozenginew&quot; c:\henz\talks\sma2001\programs\grocery3.ozf" TargetMode="External"/><Relationship Id="rId4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hyperlink" Target="c:\friartuck\bin\ozenginew c:\henz\talks\sma2001\programs\fractions1.ozf" TargetMode="External"/><Relationship Id="rId2" Type="http://schemas.openxmlformats.org/officeDocument/2006/relationships/hyperlink" Target="c:\friartuck\bin\ozenginew c:\henz\talks\sma2001\programs\fractions2.ozf" TargetMode="External"/><Relationship Id="rId3" Type="http://schemas.openxmlformats.org/officeDocument/2006/relationships/hyperlink" Target="c:\friartuck\bin\ozenginew c:\henz\talks\sma2001\programs\fractions3.ozf" TargetMode="External"/><Relationship Id="rId4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hyperlink" Target="&quot;c:\Program Files\Mozart\bin\ozenginew&quot; c:\henz\talks\sma2001\programs\euler.ozf" TargetMode="External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266760"/>
            <a:ext cx="807732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df103"/>
                </a:solidFill>
                <a:latin typeface="Times New Roman"/>
              </a:rPr>
              <a:t>Constraint Programming II</a:t>
            </a:r>
            <a:endParaRPr b="0" lang="en-US" sz="66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1430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rch 15, 200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143000" y="5181480"/>
            <a:ext cx="7543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rtin Henz, School of Computing, NU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ww.comp.nus.edu.sg/~hen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onstraints and Propagator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35280" y="313056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9600" y="320040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 flipV="1">
            <a:off x="2666880" y="2286000"/>
            <a:ext cx="60984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1676520"/>
            <a:ext cx="3124080" cy="580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 different(S,E,N,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,O,R,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58640" y="1600200"/>
            <a:ext cx="469188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00*S + 100*E + 10*N +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1000*M + 100*O + 10*R +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= 10000*M + 1000*O + 100*N + 10*E +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800600" y="2438280"/>
            <a:ext cx="83808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3EF1C-9E3B-4A2F-8B1A-66DC91954C46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onstraints and Propagator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35280" y="313056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279600" y="320040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2666880" y="22860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85800" y="1676520"/>
            <a:ext cx="3124080" cy="580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 different(S,E,N,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,O,R,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58640" y="1600200"/>
            <a:ext cx="469188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00*S + 100*E + 10*N +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1000*M + 100*O + 10*R +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= 10000*M + 1000*O + 100*N + 10*E +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4800600" y="2438280"/>
            <a:ext cx="83808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01E9-C21F-4C8C-9C23-3B918621C8E0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onstraints and Propagator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35280" y="313056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79960" y="3200400"/>
            <a:ext cx="1666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2666880" y="2286000"/>
            <a:ext cx="60984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85800" y="1676520"/>
            <a:ext cx="3124080" cy="580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 different(S,E,N,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,O,R,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058640" y="1600200"/>
            <a:ext cx="469188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00*S + 100*E + 10*N +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1000*M + 100*O + 10*R +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= 10000*M + 1000*O + 100*N + 10*E +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800600" y="2438280"/>
            <a:ext cx="838080" cy="9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A823-0E11-4D7D-9A41-BBE4013244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onstraints and Propagator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735280" y="313056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9960" y="3200400"/>
            <a:ext cx="16664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0000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 {0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,2..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2666880" y="2286000"/>
            <a:ext cx="609840" cy="990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85800" y="1676520"/>
            <a:ext cx="3124080" cy="580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 different(S,E,N,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,O,R,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058640" y="1600200"/>
            <a:ext cx="469188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00*S + 100*E + 10*N +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1000*M + 100*O + 10*R +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= 10000*M + 1000*O + 100*N + 10*E +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4800600" y="2438280"/>
            <a:ext cx="83808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7480" y="4952880"/>
            <a:ext cx="259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so on and so 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3D2B2-A2F2-46F2-A83C-CD231674867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onstraints and Propagator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735280" y="3130560"/>
            <a:ext cx="2538360" cy="22287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279600" y="3200400"/>
            <a:ext cx="1422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 flipV="1">
            <a:off x="2666880" y="2286000"/>
            <a:ext cx="609840" cy="990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85800" y="1676520"/>
            <a:ext cx="3124080" cy="58068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all different(S,E,N,D,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,O,R,Y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58640" y="1600200"/>
            <a:ext cx="4691880" cy="824040"/>
          </a:xfrm>
          <a:prstGeom prst="rect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1000*S + 100*E + 10*N + 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+ 1000*M + 100*O + 10*R + 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= 10000*M + 1000*O + 100*N + 10*E +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4800600" y="2438280"/>
            <a:ext cx="838080" cy="914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9CD1A-F891-4424-A9CD-9C70D9E58798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mpleteness of Propaga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n: Basic constraint C and propagator P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ion is complete, if for every variable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and every value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v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the domain of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there is an assignment in which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x=v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that satisfies C and P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lete propagation is also called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domain-consistency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eaeaea"/>
                </a:solidFill>
                <a:latin typeface="Times New Roman"/>
              </a:rPr>
              <a:t>arc-consistency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2CDA9-BB12-40F2-B990-CA49BB157F8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ll Different: Example 1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v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,2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w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x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z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     {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alldifferent(w,x,y,z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F014D-3AE5-4725-97F5-49E189CB5CA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ll Different: Example 2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v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w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x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z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       {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alldifferent(w,x,y,z)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C86B4-8A59-45A4-8292-285407E92865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ll Different: Example 2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v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1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w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,2,3,4,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x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,2,3,4,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5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{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1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z </a:t>
            </a:r>
            <a:r>
              <a:rPr b="1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        {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alldifferent(w,x,y,z)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onValu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19991-C3A5-4EA2-A596-CB956856E42F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ll Different: Example 3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x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z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alldifferent(w,x,y,z)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onValue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A150F-B6A6-4206-8F1B-E8D81A608DD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Components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AC503-CE95-4AA8-81EC-3D152CD1DFB7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ll Different: Example 3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x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z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alldifferent(w,x,y,z)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onDomain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C48C7E-0868-481E-8274-75371370521F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ll Different: Example 3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: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1,2,3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w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</a:t>
            </a:r>
            <a:r>
              <a:rPr b="1" lang="en-US" sz="3200" spc="-1" strike="noStrike">
                <a:solidFill>
                  <a:srgbClr val="ff0000"/>
                </a:solidFill>
                <a:latin typeface="Courier New"/>
              </a:rPr>
              <a:t>1,2,3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,4,5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x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z </a:t>
            </a:r>
            <a:r>
              <a:rPr b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 {1,2,3}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:  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alldifferent(w,x,y,z) 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onDomain</a:t>
            </a:r>
            <a:r>
              <a:rPr b="1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7F7D-D869-4D6B-A266-A49E8F01445F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mplete All Different Constrain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9528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525780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33520" y="426708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28600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3520" y="3276720"/>
            <a:ext cx="865080" cy="788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00400" y="129528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525780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26708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28600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276720"/>
            <a:ext cx="914400" cy="788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6" name=""/>
          <p:cNvCxnSpPr>
            <a:stCxn id="176" idx="6"/>
            <a:endCxn id="181" idx="2"/>
          </p:cNvCxnSpPr>
          <p:nvPr/>
        </p:nvCxnSpPr>
        <p:spPr>
          <a:xfrm>
            <a:off x="1412640" y="1690200"/>
            <a:ext cx="17737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7" name=""/>
          <p:cNvCxnSpPr>
            <a:stCxn id="180" idx="6"/>
            <a:endCxn id="181" idx="2"/>
          </p:cNvCxnSpPr>
          <p:nvPr/>
        </p:nvCxnSpPr>
        <p:spPr>
          <a:xfrm flipV="1">
            <a:off x="1412640" y="1690200"/>
            <a:ext cx="1773720" cy="198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8" name=""/>
          <p:cNvCxnSpPr>
            <a:stCxn id="176" idx="6"/>
            <a:endCxn id="185" idx="2"/>
          </p:cNvCxnSpPr>
          <p:nvPr/>
        </p:nvCxnSpPr>
        <p:spPr>
          <a:xfrm>
            <a:off x="1412640" y="1690560"/>
            <a:ext cx="1773720" cy="198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89" name=""/>
          <p:cNvCxnSpPr>
            <a:stCxn id="176" idx="6"/>
            <a:endCxn id="183" idx="2"/>
          </p:cNvCxnSpPr>
          <p:nvPr/>
        </p:nvCxnSpPr>
        <p:spPr>
          <a:xfrm>
            <a:off x="1412640" y="169020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0" name=""/>
          <p:cNvCxnSpPr>
            <a:stCxn id="176" idx="6"/>
            <a:endCxn id="182" idx="2"/>
          </p:cNvCxnSpPr>
          <p:nvPr/>
        </p:nvCxnSpPr>
        <p:spPr>
          <a:xfrm>
            <a:off x="1412640" y="1690200"/>
            <a:ext cx="1773720" cy="39632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1" name=""/>
          <p:cNvCxnSpPr>
            <a:stCxn id="179" idx="6"/>
            <a:endCxn id="181" idx="2"/>
          </p:cNvCxnSpPr>
          <p:nvPr/>
        </p:nvCxnSpPr>
        <p:spPr>
          <a:xfrm flipV="1">
            <a:off x="1412640" y="169020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2" name=""/>
          <p:cNvCxnSpPr>
            <a:stCxn id="179" idx="6"/>
            <a:endCxn id="184" idx="2"/>
          </p:cNvCxnSpPr>
          <p:nvPr/>
        </p:nvCxnSpPr>
        <p:spPr>
          <a:xfrm>
            <a:off x="1412640" y="2680920"/>
            <a:ext cx="17737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3" name=""/>
          <p:cNvCxnSpPr>
            <a:stCxn id="179" idx="6"/>
            <a:endCxn id="185" idx="2"/>
          </p:cNvCxnSpPr>
          <p:nvPr/>
        </p:nvCxnSpPr>
        <p:spPr>
          <a:xfrm>
            <a:off x="1412640" y="268128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4" name=""/>
          <p:cNvCxnSpPr>
            <a:stCxn id="179" idx="6"/>
            <a:endCxn id="183" idx="2"/>
          </p:cNvCxnSpPr>
          <p:nvPr/>
        </p:nvCxnSpPr>
        <p:spPr>
          <a:xfrm>
            <a:off x="1412640" y="268092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5" name=""/>
          <p:cNvCxnSpPr>
            <a:stCxn id="179" idx="6"/>
            <a:endCxn id="182" idx="2"/>
          </p:cNvCxnSpPr>
          <p:nvPr/>
        </p:nvCxnSpPr>
        <p:spPr>
          <a:xfrm>
            <a:off x="1412640" y="268092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6" name=""/>
          <p:cNvCxnSpPr>
            <a:stCxn id="176" idx="6"/>
            <a:endCxn id="184" idx="2"/>
          </p:cNvCxnSpPr>
          <p:nvPr/>
        </p:nvCxnSpPr>
        <p:spPr>
          <a:xfrm>
            <a:off x="1412640" y="169056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7" name=""/>
          <p:cNvCxnSpPr>
            <a:stCxn id="180" idx="6"/>
            <a:endCxn id="184" idx="2"/>
          </p:cNvCxnSpPr>
          <p:nvPr/>
        </p:nvCxnSpPr>
        <p:spPr>
          <a:xfrm flipV="1">
            <a:off x="1412640" y="268092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8" name=""/>
          <p:cNvCxnSpPr>
            <a:stCxn id="178" idx="6"/>
            <a:endCxn id="181" idx="2"/>
          </p:cNvCxnSpPr>
          <p:nvPr/>
        </p:nvCxnSpPr>
        <p:spPr>
          <a:xfrm flipV="1">
            <a:off x="1412640" y="168984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199" name=""/>
          <p:cNvCxnSpPr>
            <a:stCxn id="178" idx="6"/>
            <a:endCxn id="185" idx="2"/>
          </p:cNvCxnSpPr>
          <p:nvPr/>
        </p:nvCxnSpPr>
        <p:spPr>
          <a:xfrm flipV="1">
            <a:off x="1412640" y="3671280"/>
            <a:ext cx="1773720" cy="99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0" name=""/>
          <p:cNvCxnSpPr>
            <a:stCxn id="178" idx="6"/>
            <a:endCxn id="184" idx="2"/>
          </p:cNvCxnSpPr>
          <p:nvPr/>
        </p:nvCxnSpPr>
        <p:spPr>
          <a:xfrm flipV="1">
            <a:off x="1412640" y="268056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1" name=""/>
          <p:cNvCxnSpPr>
            <a:stCxn id="180" idx="6"/>
            <a:endCxn id="185" idx="2"/>
          </p:cNvCxnSpPr>
          <p:nvPr/>
        </p:nvCxnSpPr>
        <p:spPr>
          <a:xfrm>
            <a:off x="1412640" y="3671640"/>
            <a:ext cx="17737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2" name=""/>
          <p:cNvCxnSpPr>
            <a:stCxn id="177" idx="6"/>
            <a:endCxn id="181" idx="2"/>
          </p:cNvCxnSpPr>
          <p:nvPr/>
        </p:nvCxnSpPr>
        <p:spPr>
          <a:xfrm flipV="1">
            <a:off x="1412640" y="1689840"/>
            <a:ext cx="1773720" cy="39632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3" name=""/>
          <p:cNvCxnSpPr>
            <a:stCxn id="177" idx="6"/>
            <a:endCxn id="184" idx="2"/>
          </p:cNvCxnSpPr>
          <p:nvPr/>
        </p:nvCxnSpPr>
        <p:spPr>
          <a:xfrm flipV="1">
            <a:off x="1412640" y="268056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04" name=""/>
          <p:cNvCxnSpPr>
            <a:stCxn id="177" idx="6"/>
            <a:endCxn id="185" idx="2"/>
          </p:cNvCxnSpPr>
          <p:nvPr/>
        </p:nvCxnSpPr>
        <p:spPr>
          <a:xfrm flipV="1">
            <a:off x="1412640" y="367128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094A0B-393E-44B7-B1E5-4B745DB5DBB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mplete All Different Constrain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486400" y="1220040"/>
            <a:ext cx="365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Remove all edg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at do not belo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a maximu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tching i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bipartite grap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[Regin 94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33520" y="129528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33520" y="525780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33520" y="426708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33520" y="228600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3276720"/>
            <a:ext cx="865080" cy="788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200400" y="129528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525780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00400" y="426708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200400" y="228600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3276720"/>
            <a:ext cx="914400" cy="788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17" name=""/>
          <p:cNvCxnSpPr>
            <a:stCxn id="207" idx="6"/>
            <a:endCxn id="212" idx="2"/>
          </p:cNvCxnSpPr>
          <p:nvPr/>
        </p:nvCxnSpPr>
        <p:spPr>
          <a:xfrm>
            <a:off x="1412640" y="1690200"/>
            <a:ext cx="17737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18" name=""/>
          <p:cNvCxnSpPr>
            <a:stCxn id="211" idx="6"/>
            <a:endCxn id="212" idx="2"/>
          </p:cNvCxnSpPr>
          <p:nvPr/>
        </p:nvCxnSpPr>
        <p:spPr>
          <a:xfrm flipV="1">
            <a:off x="1412640" y="1690200"/>
            <a:ext cx="1773720" cy="198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19" name=""/>
          <p:cNvCxnSpPr>
            <a:stCxn id="207" idx="6"/>
            <a:endCxn id="216" idx="2"/>
          </p:cNvCxnSpPr>
          <p:nvPr/>
        </p:nvCxnSpPr>
        <p:spPr>
          <a:xfrm>
            <a:off x="1412640" y="1690560"/>
            <a:ext cx="1773720" cy="198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0" name=""/>
          <p:cNvCxnSpPr>
            <a:stCxn id="207" idx="6"/>
            <a:endCxn id="214" idx="2"/>
          </p:cNvCxnSpPr>
          <p:nvPr/>
        </p:nvCxnSpPr>
        <p:spPr>
          <a:xfrm>
            <a:off x="1412640" y="169020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1" name=""/>
          <p:cNvCxnSpPr>
            <a:stCxn id="207" idx="6"/>
            <a:endCxn id="213" idx="2"/>
          </p:cNvCxnSpPr>
          <p:nvPr/>
        </p:nvCxnSpPr>
        <p:spPr>
          <a:xfrm>
            <a:off x="1412640" y="1690200"/>
            <a:ext cx="1773720" cy="39632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2" name=""/>
          <p:cNvCxnSpPr>
            <a:stCxn id="210" idx="6"/>
            <a:endCxn id="212" idx="2"/>
          </p:cNvCxnSpPr>
          <p:nvPr/>
        </p:nvCxnSpPr>
        <p:spPr>
          <a:xfrm flipV="1">
            <a:off x="1412640" y="169020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3" name=""/>
          <p:cNvCxnSpPr>
            <a:stCxn id="210" idx="6"/>
            <a:endCxn id="215" idx="2"/>
          </p:cNvCxnSpPr>
          <p:nvPr/>
        </p:nvCxnSpPr>
        <p:spPr>
          <a:xfrm>
            <a:off x="1412640" y="2680920"/>
            <a:ext cx="17737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4" name=""/>
          <p:cNvCxnSpPr>
            <a:stCxn id="210" idx="6"/>
            <a:endCxn id="216" idx="2"/>
          </p:cNvCxnSpPr>
          <p:nvPr/>
        </p:nvCxnSpPr>
        <p:spPr>
          <a:xfrm>
            <a:off x="1412640" y="268128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5" name=""/>
          <p:cNvCxnSpPr>
            <a:stCxn id="210" idx="6"/>
            <a:endCxn id="214" idx="2"/>
          </p:cNvCxnSpPr>
          <p:nvPr/>
        </p:nvCxnSpPr>
        <p:spPr>
          <a:xfrm>
            <a:off x="1412640" y="268092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6" name=""/>
          <p:cNvCxnSpPr>
            <a:stCxn id="210" idx="6"/>
            <a:endCxn id="213" idx="2"/>
          </p:cNvCxnSpPr>
          <p:nvPr/>
        </p:nvCxnSpPr>
        <p:spPr>
          <a:xfrm>
            <a:off x="1412640" y="268092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7" name=""/>
          <p:cNvCxnSpPr>
            <a:stCxn id="207" idx="6"/>
            <a:endCxn id="215" idx="2"/>
          </p:cNvCxnSpPr>
          <p:nvPr/>
        </p:nvCxnSpPr>
        <p:spPr>
          <a:xfrm>
            <a:off x="1412640" y="169056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8" name=""/>
          <p:cNvCxnSpPr>
            <a:stCxn id="211" idx="6"/>
            <a:endCxn id="215" idx="2"/>
          </p:cNvCxnSpPr>
          <p:nvPr/>
        </p:nvCxnSpPr>
        <p:spPr>
          <a:xfrm flipV="1">
            <a:off x="1412640" y="268092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29" name=""/>
          <p:cNvCxnSpPr>
            <a:stCxn id="209" idx="6"/>
            <a:endCxn id="212" idx="2"/>
          </p:cNvCxnSpPr>
          <p:nvPr/>
        </p:nvCxnSpPr>
        <p:spPr>
          <a:xfrm flipV="1">
            <a:off x="1412640" y="168984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0" name=""/>
          <p:cNvCxnSpPr>
            <a:stCxn id="209" idx="6"/>
            <a:endCxn id="216" idx="2"/>
          </p:cNvCxnSpPr>
          <p:nvPr/>
        </p:nvCxnSpPr>
        <p:spPr>
          <a:xfrm flipV="1">
            <a:off x="1412640" y="3671280"/>
            <a:ext cx="1773720" cy="99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1" name=""/>
          <p:cNvCxnSpPr>
            <a:stCxn id="209" idx="6"/>
            <a:endCxn id="215" idx="2"/>
          </p:cNvCxnSpPr>
          <p:nvPr/>
        </p:nvCxnSpPr>
        <p:spPr>
          <a:xfrm flipV="1">
            <a:off x="1412640" y="268056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2" name=""/>
          <p:cNvCxnSpPr>
            <a:stCxn id="211" idx="6"/>
            <a:endCxn id="216" idx="2"/>
          </p:cNvCxnSpPr>
          <p:nvPr/>
        </p:nvCxnSpPr>
        <p:spPr>
          <a:xfrm>
            <a:off x="1412640" y="3671640"/>
            <a:ext cx="17737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3" name=""/>
          <p:cNvCxnSpPr>
            <a:stCxn id="208" idx="6"/>
            <a:endCxn id="212" idx="2"/>
          </p:cNvCxnSpPr>
          <p:nvPr/>
        </p:nvCxnSpPr>
        <p:spPr>
          <a:xfrm flipV="1">
            <a:off x="1412640" y="1689840"/>
            <a:ext cx="1773720" cy="39632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4" name=""/>
          <p:cNvCxnSpPr>
            <a:stCxn id="208" idx="6"/>
            <a:endCxn id="215" idx="2"/>
          </p:cNvCxnSpPr>
          <p:nvPr/>
        </p:nvCxnSpPr>
        <p:spPr>
          <a:xfrm flipV="1">
            <a:off x="1412640" y="268056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35" name=""/>
          <p:cNvCxnSpPr>
            <a:stCxn id="208" idx="6"/>
            <a:endCxn id="216" idx="2"/>
          </p:cNvCxnSpPr>
          <p:nvPr/>
        </p:nvCxnSpPr>
        <p:spPr>
          <a:xfrm flipV="1">
            <a:off x="1412640" y="367128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F29C7-8CE0-4C4B-87C3-7ABBD73D1340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5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mplete All Different Constrain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943600" y="1296720"/>
            <a:ext cx="3200400" cy="522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...by applying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aximum matching algorithm in bipartite graph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[Hopcrof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Karp 1973]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O(|X|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d</a:t>
            </a:r>
            <a:r>
              <a:rPr b="0" lang="en-US" sz="3600" spc="-1" strike="noStrike" baseline="-25000">
                <a:solidFill>
                  <a:srgbClr val="ffff00"/>
                </a:solidFill>
                <a:latin typeface="Times New Roman"/>
              </a:rPr>
              <a:t>max</a:t>
            </a:r>
            <a:r>
              <a:rPr b="0" lang="en-US" sz="36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3520" y="129528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525780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z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33520" y="426708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2286000"/>
            <a:ext cx="86508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33520" y="3276720"/>
            <a:ext cx="865080" cy="788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0400" y="129528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525780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426708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00400" y="2286000"/>
            <a:ext cx="914400" cy="78912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200400" y="3276720"/>
            <a:ext cx="914400" cy="788760"/>
          </a:xfrm>
          <a:prstGeom prst="ellipse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38" idx="6"/>
            <a:endCxn id="243" idx="2"/>
          </p:cNvCxnSpPr>
          <p:nvPr/>
        </p:nvCxnSpPr>
        <p:spPr>
          <a:xfrm>
            <a:off x="1412640" y="1690200"/>
            <a:ext cx="1773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49" name=""/>
          <p:cNvCxnSpPr>
            <a:stCxn id="242" idx="6"/>
            <a:endCxn id="243" idx="2"/>
          </p:cNvCxnSpPr>
          <p:nvPr/>
        </p:nvCxnSpPr>
        <p:spPr>
          <a:xfrm flipV="1">
            <a:off x="1412640" y="1690200"/>
            <a:ext cx="1773720" cy="198216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50" name=""/>
          <p:cNvCxnSpPr>
            <a:stCxn id="238" idx="6"/>
            <a:endCxn id="247" idx="2"/>
          </p:cNvCxnSpPr>
          <p:nvPr/>
        </p:nvCxnSpPr>
        <p:spPr>
          <a:xfrm>
            <a:off x="1412640" y="1690560"/>
            <a:ext cx="1773720" cy="198216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51" name=""/>
          <p:cNvCxnSpPr>
            <a:stCxn id="238" idx="6"/>
            <a:endCxn id="245" idx="2"/>
          </p:cNvCxnSpPr>
          <p:nvPr/>
        </p:nvCxnSpPr>
        <p:spPr>
          <a:xfrm>
            <a:off x="1412640" y="169020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52" name=""/>
          <p:cNvCxnSpPr>
            <a:stCxn id="238" idx="6"/>
            <a:endCxn id="244" idx="2"/>
          </p:cNvCxnSpPr>
          <p:nvPr/>
        </p:nvCxnSpPr>
        <p:spPr>
          <a:xfrm>
            <a:off x="1412640" y="1690200"/>
            <a:ext cx="1773720" cy="39632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53" name=""/>
          <p:cNvCxnSpPr>
            <a:stCxn id="241" idx="6"/>
            <a:endCxn id="243" idx="2"/>
          </p:cNvCxnSpPr>
          <p:nvPr/>
        </p:nvCxnSpPr>
        <p:spPr>
          <a:xfrm flipV="1">
            <a:off x="1412640" y="1690200"/>
            <a:ext cx="1773720" cy="9914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54" name=""/>
          <p:cNvCxnSpPr>
            <a:stCxn id="241" idx="6"/>
            <a:endCxn id="246" idx="2"/>
          </p:cNvCxnSpPr>
          <p:nvPr/>
        </p:nvCxnSpPr>
        <p:spPr>
          <a:xfrm>
            <a:off x="1412640" y="2680920"/>
            <a:ext cx="17737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55" name=""/>
          <p:cNvCxnSpPr>
            <a:stCxn id="241" idx="6"/>
            <a:endCxn id="247" idx="2"/>
          </p:cNvCxnSpPr>
          <p:nvPr/>
        </p:nvCxnSpPr>
        <p:spPr>
          <a:xfrm>
            <a:off x="1412640" y="2681280"/>
            <a:ext cx="1773720" cy="9914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56" name=""/>
          <p:cNvCxnSpPr>
            <a:stCxn id="241" idx="6"/>
            <a:endCxn id="245" idx="2"/>
          </p:cNvCxnSpPr>
          <p:nvPr/>
        </p:nvCxnSpPr>
        <p:spPr>
          <a:xfrm>
            <a:off x="1412640" y="268092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57" name=""/>
          <p:cNvCxnSpPr>
            <a:stCxn id="241" idx="6"/>
            <a:endCxn id="244" idx="2"/>
          </p:cNvCxnSpPr>
          <p:nvPr/>
        </p:nvCxnSpPr>
        <p:spPr>
          <a:xfrm>
            <a:off x="1412640" y="268092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58" name=""/>
          <p:cNvCxnSpPr>
            <a:stCxn id="238" idx="6"/>
            <a:endCxn id="246" idx="2"/>
          </p:cNvCxnSpPr>
          <p:nvPr/>
        </p:nvCxnSpPr>
        <p:spPr>
          <a:xfrm>
            <a:off x="1412640" y="1690560"/>
            <a:ext cx="1773720" cy="99144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cxnSp>
        <p:nvCxnSpPr>
          <p:cNvPr id="259" name=""/>
          <p:cNvCxnSpPr>
            <a:stCxn id="242" idx="6"/>
            <a:endCxn id="246" idx="2"/>
          </p:cNvCxnSpPr>
          <p:nvPr/>
        </p:nvCxnSpPr>
        <p:spPr>
          <a:xfrm flipV="1">
            <a:off x="1412640" y="2680920"/>
            <a:ext cx="1773720" cy="991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0" name=""/>
          <p:cNvCxnSpPr>
            <a:stCxn id="240" idx="6"/>
            <a:endCxn id="243" idx="2"/>
          </p:cNvCxnSpPr>
          <p:nvPr/>
        </p:nvCxnSpPr>
        <p:spPr>
          <a:xfrm flipV="1">
            <a:off x="1412640" y="168984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1" name=""/>
          <p:cNvCxnSpPr>
            <a:stCxn id="240" idx="6"/>
            <a:endCxn id="247" idx="2"/>
          </p:cNvCxnSpPr>
          <p:nvPr/>
        </p:nvCxnSpPr>
        <p:spPr>
          <a:xfrm flipV="1">
            <a:off x="1412640" y="3671280"/>
            <a:ext cx="1773720" cy="99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2" name=""/>
          <p:cNvCxnSpPr>
            <a:stCxn id="240" idx="6"/>
            <a:endCxn id="246" idx="2"/>
          </p:cNvCxnSpPr>
          <p:nvPr/>
        </p:nvCxnSpPr>
        <p:spPr>
          <a:xfrm flipV="1">
            <a:off x="1412640" y="268056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3" name=""/>
          <p:cNvCxnSpPr>
            <a:stCxn id="242" idx="6"/>
            <a:endCxn id="247" idx="2"/>
          </p:cNvCxnSpPr>
          <p:nvPr/>
        </p:nvCxnSpPr>
        <p:spPr>
          <a:xfrm>
            <a:off x="1412640" y="3671640"/>
            <a:ext cx="1773720" cy="108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4" name=""/>
          <p:cNvCxnSpPr>
            <a:stCxn id="239" idx="6"/>
            <a:endCxn id="243" idx="2"/>
          </p:cNvCxnSpPr>
          <p:nvPr/>
        </p:nvCxnSpPr>
        <p:spPr>
          <a:xfrm flipV="1">
            <a:off x="1412640" y="1689840"/>
            <a:ext cx="1773720" cy="39632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5" name=""/>
          <p:cNvCxnSpPr>
            <a:stCxn id="239" idx="6"/>
            <a:endCxn id="246" idx="2"/>
          </p:cNvCxnSpPr>
          <p:nvPr/>
        </p:nvCxnSpPr>
        <p:spPr>
          <a:xfrm flipV="1">
            <a:off x="1412640" y="2680560"/>
            <a:ext cx="1773720" cy="297252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cxnSp>
        <p:nvCxnSpPr>
          <p:cNvPr id="266" name=""/>
          <p:cNvCxnSpPr>
            <a:stCxn id="239" idx="6"/>
            <a:endCxn id="247" idx="2"/>
          </p:cNvCxnSpPr>
          <p:nvPr/>
        </p:nvCxnSpPr>
        <p:spPr>
          <a:xfrm flipV="1">
            <a:off x="1412640" y="3671280"/>
            <a:ext cx="1773720" cy="198180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55402-E0EC-45BC-99D1-DF5EBF63444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Components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agation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Bran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Explo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350532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E2491D-66BE-45D2-8E1F-77E63B76071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Review: Branching for  </a:t>
            </a:r>
            <a:r>
              <a:rPr b="1" lang="en-US" sz="4800" spc="-1" strike="noStrike">
                <a:solidFill>
                  <a:srgbClr val="fdf103"/>
                </a:solidFill>
                <a:latin typeface="Courier New"/>
              </a:rPr>
              <a:t>MONEY</a:t>
            </a: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72880" y="1143000"/>
            <a:ext cx="887112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R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R]*10 + l[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search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forall(i in Lette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ordered by increasing dsize(l[i]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tryall(v in 0..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l[i] = v; 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Marlett"/>
                <a:ea typeface="Marlett"/>
              </a:rPr>
              <a:t>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l Solutions; Execution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Ru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C700C-F964-4457-BC6C-D644974013CC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Domain Splitting in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72880" y="1828800"/>
            <a:ext cx="88711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search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forall(i in Lette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while not bound(l[i]) 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let m = dmid(l[i]) i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t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l[i] &lt;= m | l[i] &gt; 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endtr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CB9E56-603F-4D60-950B-DAFD14EE78F5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Components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agation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Bran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Explo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403848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EDFD30-46B7-4E1F-BAFA-6D9B9FD352B2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Optimization in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74680" y="1143000"/>
            <a:ext cx="88675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T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maximize money subject to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money = l[M]*10000+l[O]*1000+l[N]*100+l[E]*10+l[Y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+              l[M]*1000 + l[O]*100 + l[S]*10 + l[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Marlett"/>
                <a:ea typeface="Marlett"/>
              </a:rPr>
              <a:t>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ll Solutions; Execution </a:t>
            </a:r>
            <a:r>
              <a:rPr b="1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>
            <a:hlinkClick r:id="rId1"/>
          </p:cNvPr>
          <p:cNvSpPr/>
          <p:nvPr/>
        </p:nvSpPr>
        <p:spPr>
          <a:xfrm>
            <a:off x="6324480" y="5257800"/>
            <a:ext cx="2819520" cy="762120"/>
          </a:xfrm>
          <a:custGeom>
            <a:avLst/>
            <a:gdLst>
              <a:gd name="textAreaLeft" fmla="*/ 49320 w 2819520"/>
              <a:gd name="textAreaRight" fmla="*/ 2770200 w 2819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79883" h="21600">
                <a:moveTo>
                  <a:pt x="0" y="0"/>
                </a:moveTo>
                <a:lnTo>
                  <a:pt x="79883" y="0"/>
                </a:lnTo>
                <a:lnTo>
                  <a:pt x="79883" y="21600"/>
                </a:lnTo>
                <a:lnTo>
                  <a:pt x="0" y="21600"/>
                </a:lnTo>
                <a:close/>
              </a:path>
              <a:path fill="lightenLess" w="79883" h="21600">
                <a:moveTo>
                  <a:pt x="0" y="0"/>
                </a:moveTo>
                <a:lnTo>
                  <a:pt x="79883" y="0"/>
                </a:lnTo>
                <a:lnTo>
                  <a:pt x="78483" y="1400"/>
                </a:lnTo>
                <a:lnTo>
                  <a:pt x="1400" y="1400"/>
                </a:lnTo>
                <a:close/>
              </a:path>
              <a:path fill="darken" w="79883" h="21600">
                <a:moveTo>
                  <a:pt x="79883" y="0"/>
                </a:moveTo>
                <a:lnTo>
                  <a:pt x="79883" y="21600"/>
                </a:lnTo>
                <a:lnTo>
                  <a:pt x="78483" y="20200"/>
                </a:lnTo>
                <a:lnTo>
                  <a:pt x="78483" y="1400"/>
                </a:lnTo>
                <a:close/>
              </a:path>
              <a:path fill="darkenLess" w="79883" h="21600">
                <a:moveTo>
                  <a:pt x="798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8483" y="20200"/>
                </a:lnTo>
                <a:close/>
              </a:path>
              <a:path fill="lighten" w="798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MOST MONE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D7AAA-28B7-4F7B-B49A-4F93C4D9A05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Review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is a framework for integrating three families of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paga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ranching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ploration algorithm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1CB1C-1E74-4E34-8561-D9207DDD96D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Review: Depth-first Search in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74680" y="1066680"/>
            <a:ext cx="886752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T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S]*10 + l[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f nothing else specified, depth-first search is used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87D36-AED8-48FC-AF09-E208ABD6167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uilt-in Explorations in OPL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epth-first search (OPL defaul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st-first 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oose the node first that has maximal (minimal) lower bound for optimization func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BFSearch(money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imited discrepancy search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explore search tree in order of increasing “discrepancies”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PL: </a:t>
            </a:r>
            <a:r>
              <a:rPr b="1" lang="en-US" sz="2400" spc="-1" strike="noStrike">
                <a:solidFill>
                  <a:srgbClr val="eaeaea"/>
                </a:solidFill>
                <a:latin typeface="Courier New"/>
              </a:rPr>
              <a:t>LDSearch(4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E4E01-342F-4CCE-A737-F8CE497CEAB9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est-first Search for Money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2040" y="1143000"/>
            <a:ext cx="9020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T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aximize money subject to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money = l[M]*10000+l[O]*1000+l[N]*100+l[E]*10+l[Y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S]*10 + l[T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BFSearch(money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08084-8656-4E0B-BDAD-38F121742588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Programming Explorations in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612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orks on nodes of search tr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ses priority queue for order of nod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rameterized by user-defined com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55CA5-A0CE-4242-8836-35CE207B3C6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e Exploration Algorithm of OPL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Boolean explore(PriorityQueue Q) 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if Q.empty() { return false; 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else { Node a := Q.pop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return exploreActiveNode(a,Q); } 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Boolean exploreActiveNode a, PriorityQueue Q) 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if a.isFailNode()            { return explore(Q); 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else if a.isLeafNode()       { return true; 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else if a.mustBePostponed(Q) { Q.insert(a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return explore(Q); 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else                         { Q.insert(a.getRight()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a := a.getLeft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return exploreActiveNo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(a,Q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                     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CCAE5-1DE4-4FAF-B293-EC812F83A60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480" y="0"/>
            <a:ext cx="90835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Example: Implementing Depth-First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0" y="1219320"/>
            <a:ext cx="914400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SearchStrategy myDFS() 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evaluated to  - OplSystem.getDepth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postponed whe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OplSystem.getEvaluation()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OplSystem.getBestEvaluation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CE422-1A82-4A98-97FD-FF1498D450EF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pplying User-defined Explora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72880" y="1143000"/>
            <a:ext cx="887112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R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+              l[M]*1000 + l[O]*100 + l[R]*10 + l[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applyStrategy myDF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forall(i in Letter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l[i] = v;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C6D72-9120-4716-A7A0-D007B829C180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103"/>
                </a:solidFill>
                <a:latin typeface="Times New Roman"/>
              </a:rPr>
              <a:t>Combining Branching and Exploration</a:t>
            </a:r>
            <a:endParaRPr b="0" lang="en-US" sz="44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272880" y="1143000"/>
            <a:ext cx="8871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search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applyStrategy myDFS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forall(i in 1..3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ordered by increasing dsize(l[i]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tryall(v in 0..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l[i] = v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LDSearch(4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forall(i in 4..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tryall(v in 0..9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l[i] = v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6633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DE183F-358F-40D5-81F5-3DDAAB335CDA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Components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0" y="304812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DC3DB-12AA-42FF-B0F5-A3FA5FBDDA0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CC 1997/98: A Success Story of Constraint Programming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5031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teger programming + enumeration, 24 hour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Nemhauser, Trick: Scheduling a Major College Basketball Conference, Operations Research, 1998, 46(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, less than 1 minu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Henz: Scheduling a Major College Basketball Conference - Revisited, Operations Research, 2001,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49(1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8E6CC7-1215-4123-BC90-4686AE7667A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492280" y="3059280"/>
            <a:ext cx="1855800" cy="1379520"/>
          </a:xfrm>
          <a:prstGeom prst="diamond">
            <a:avLst/>
          </a:prstGeom>
          <a:solidFill>
            <a:srgbClr val="33cc33"/>
          </a:solidFill>
          <a:ln w="381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62480" y="0"/>
            <a:ext cx="4781520" cy="257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S E N D</a:t>
            </a: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+ M O R 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fdf103"/>
                </a:solidFill>
                <a:latin typeface="Courier New"/>
              </a:rPr>
              <a:t>= M O N E Y</a:t>
            </a:r>
            <a:endParaRPr b="0" lang="en-US" sz="40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95920" y="1638360"/>
            <a:ext cx="3448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4520" y="1182600"/>
            <a:ext cx="354240" cy="45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241720" y="0"/>
            <a:ext cx="1760400" cy="1263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67240" y="6336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4..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5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2314440" y="1182600"/>
            <a:ext cx="362160" cy="4302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303200" y="1617840"/>
            <a:ext cx="128772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48160" y="1565280"/>
            <a:ext cx="1760400" cy="126360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924720" y="166068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5..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6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52040" y="10857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59840" y="109692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2120" y="2741760"/>
            <a:ext cx="370080" cy="47124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3633480" y="2755800"/>
            <a:ext cx="376200" cy="4590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81600" y="3138480"/>
            <a:ext cx="1760400" cy="126216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258160" y="3233880"/>
            <a:ext cx="87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6..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7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..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98440" y="267336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093280" y="272556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80520" y="3179880"/>
            <a:ext cx="67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S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9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E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5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N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6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D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7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M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1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O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0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R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8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Courier New"/>
              </a:rPr>
              <a:t>Y </a:t>
            </a:r>
            <a:r>
              <a:rPr b="1" lang="en-US" sz="9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1" lang="en-US" sz="900" spc="-1" strike="noStrike">
                <a:solidFill>
                  <a:srgbClr val="ffffff"/>
                </a:solidFill>
                <a:latin typeface="Courier New"/>
              </a:rPr>
              <a:t> {2}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194520" y="4325760"/>
            <a:ext cx="382320" cy="50328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4986000" y="4363920"/>
            <a:ext cx="376200" cy="4446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970440" y="4818240"/>
            <a:ext cx="128736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2960" y="430524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=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407640" y="4259160"/>
            <a:ext cx="9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46920" y="4818240"/>
            <a:ext cx="1287360" cy="1191240"/>
          </a:xfrm>
          <a:prstGeom prst="rect">
            <a:avLst/>
          </a:prstGeom>
          <a:solidFill>
            <a:srgbClr val="ff0000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2D7D7-19A7-4DBF-B9A8-D4FE81958D2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156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Round Robin Tournament Planning Problem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35040" y="1827360"/>
            <a:ext cx="7470720" cy="503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 teams, each playing a fixed number of times r against every other tea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 = 1: single, r = 2: double round robin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match is home match for one and away match for the oth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nse round robi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 each date, each team plays at most onc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number of dates is minimal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5D33C3-5EDB-458C-87E9-0AFECC0AC2F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38160" y="-360"/>
            <a:ext cx="9220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e ACC 1997/98 Problem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7753320" cy="340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 teams participate in tournam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ense double round robin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2 * 9 d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at each date, each team plays either home, away or has a “bye”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ternating weekday and weekend match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107124-7247-46A9-AA65-532C6CE004F1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e ACC 1997/98 Problem (cont’d)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56680" y="1368000"/>
            <a:ext cx="858708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team can play away on both last da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team may have more than two away matches in a 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team may have more than two home matches in a 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team may have more than three away matches or byes in a 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team may have more than four home matches or byes in a row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9F5747-147E-4DE4-B772-35C955C5089E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e ACC 1997/98 Problem (cont’d)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256680" y="1368000"/>
            <a:ext cx="858708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 the weekends, each team plays four at home, four away, and one by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ach team must have home matches or byes at least on two of the first five weekend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very team except FSU has a traditional rival. The rival pairs are Clem-GT, Duke-UNC, UMD-UVA and NCSt-Wake. In the last date, every team except FSU plays against its rival, unless it plays against FSU or has a by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449A3-8C6B-4E41-BAB9-BA22562DA6EB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e ACC 1997/98 Problem (cont’d)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56680" y="1368000"/>
            <a:ext cx="858708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following pairings must occur at least once in dates 11 to 18: Duke-GT, Duke-Wake, GT-UNC, UNC-Wak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 team plays in two consecutive dates away against Duke and UNC. No team plays in three consecutive dates against Duke UNC and Wak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C plays Duke in last date and date 11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C plays Clem in the second d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Duke has bye in the first date 16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767B0F-5507-4B18-9F55-D036910FAF48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he ACC 1997/98 Problem (cont’d)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256680" y="1368000"/>
            <a:ext cx="858708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ke does not play home in date 17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ake has a bye in the first d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em, Duke, UMD and Wake do not play away in the last d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em, FSU, GT and Wake do not play away in the fist dat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either FSU nor NCSt have a bye in the last date.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UNC does not have a bye in the first d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261F8-9E82-4D4D-8117-F7942A29CB1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Nemhauser/Trick Solution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865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numerate home/away/bye patter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icit enumeration (very fast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ute pattern se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er programming (below 1 minute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ute abstract schedu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eger programming (several minute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mpute concrete schedu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explicit enumeration (approx. 24 hours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Schreuder, Combinatorial Aspects of Construction of Competition Dutch Football Leagues, Discr. Appl. Math, 35:301-312, 1992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F53B68-87FE-43AB-BB7B-C5A0B1E7ADF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355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103"/>
                </a:solidFill>
                <a:latin typeface="Times New Roman"/>
              </a:rPr>
              <a:t>Modeling ACC 97/98 as Constraint Satisfaction Problem</a:t>
            </a:r>
            <a:endParaRPr b="0" lang="en-US" sz="44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184960" cy="548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b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 *  18 variables taking values from {0,1} that express which team plays home when. Example: </a:t>
            </a:r>
            <a:r>
              <a:rPr b="0" lang="en-US" sz="3200" spc="-1" strike="noStrike">
                <a:solidFill>
                  <a:srgbClr val="eaeaea"/>
                </a:solidFill>
                <a:latin typeface="Lucida Handwriting"/>
              </a:rPr>
              <a:t>H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UNC, 5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1 means UNC plays home on date 5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way, bye similar, e.g. </a:t>
            </a:r>
            <a:r>
              <a:rPr b="0" lang="en-US" sz="3200" spc="-1" strike="noStrike">
                <a:solidFill>
                  <a:srgbClr val="eaeaea"/>
                </a:solidFill>
                <a:latin typeface="Lucida Handwriting"/>
              </a:rPr>
              <a:t>A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UNC, 5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r </a:t>
            </a:r>
            <a:r>
              <a:rPr b="0" lang="en-US" sz="3200" spc="-1" strike="noStrike">
                <a:solidFill>
                  <a:srgbClr val="eaeaea"/>
                </a:solidFill>
                <a:latin typeface="Lucida Handwriting"/>
              </a:rPr>
              <a:t>B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UNC, 5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9 * 18 variables taking values from {0,1,...,9} that express against which team which other team plays. Example: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UNC, 5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=1 means UNC plays team 1 (Clem) on date 5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24F1E-5011-4610-A111-9B887DD34A1A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36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103"/>
                </a:solidFill>
                <a:latin typeface="Times New Roman"/>
              </a:rPr>
              <a:t>Modeling ACC 97/97 as Constraint Satisfaction Problem (cont’d)</a:t>
            </a:r>
            <a:endParaRPr b="0" lang="en-US" sz="44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541520"/>
            <a:ext cx="8362800" cy="5316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aeaea"/>
                </a:solidFill>
                <a:latin typeface="Times New Roman"/>
              </a:rPr>
              <a:t>Constraints</a:t>
            </a:r>
            <a:endParaRPr b="0" lang="en-US" sz="40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 No team plays away on both last dat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lem,17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+ A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Clem,18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lt; 2, A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Duke,17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+ A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Duke,18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&lt; 2, ..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constraints can be easily formalized in this manner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68F62E-C0FA-45D9-8A05-77A88A3ED3CB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103"/>
                </a:solidFill>
                <a:latin typeface="Times New Roman"/>
              </a:rPr>
              <a:t>First Step: Use Nemhauser/Trick Idea</a:t>
            </a:r>
            <a:endParaRPr b="0" lang="en-US" sz="44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35040" y="1368000"/>
            <a:ext cx="747072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for generating all patter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SP representation straightforwar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ing time below 1 second (Pentium II, 233MHz)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for generating all pattern se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SP representation straightforwar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uting time 3.1 seco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90E7C-0D75-4C36-8E03-D9E3164B965C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120" y="0"/>
            <a:ext cx="921996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Using OPL Syntax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680" y="1447920"/>
            <a:ext cx="8867520" cy="47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num Letter {S,E,N,D,M,O,R,Y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var int l[Letter] in 0..9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alldifferent(l)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M] &lt;&gt; 0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             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l[S]*1000 + l[E]*100 + l[N]*10 + l[D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+              l[M]*1000 + l[O]*100 + l[R]*10 + l[E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Courier New"/>
              </a:rPr>
              <a:t>= l[M]*10000 + l[O]*1000 + l[N]*100 + l[E]*10 + l[Y]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search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forall(i in Letter ordered by increasing dsize(l[i])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tryall(v in 0..9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ff6633"/>
                </a:solidFill>
                <a:latin typeface="Courier New"/>
              </a:rPr>
              <a:t>l[i] = v; 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Marlett"/>
                <a:ea typeface="Marlett"/>
              </a:rPr>
              <a:t>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All Solutions; Execution </a:t>
            </a:r>
            <a:r>
              <a:rPr b="1" lang="en-US" sz="2400" spc="-1" strike="noStrike">
                <a:solidFill>
                  <a:srgbClr val="ff00ff"/>
                </a:solidFill>
                <a:latin typeface="Symbol"/>
                <a:ea typeface="Symbol"/>
              </a:rPr>
              <a:t></a:t>
            </a: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 Ru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720FF-A858-4DAD-900D-7780C76B0825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2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df103"/>
                </a:solidFill>
                <a:latin typeface="Times New Roman"/>
              </a:rPr>
              <a:t>Back to Schreuder</a:t>
            </a:r>
            <a:endParaRPr b="0" lang="en-US" sz="44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4560" y="1170000"/>
            <a:ext cx="83818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for abstract schedu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troduce variable matrix for “abstract opponents” similar to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in naïve mod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re are many abstract schedul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time  over 20 minu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for concrete schedul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odel somewhat complicated, using two levels of the “element” constrai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untime several minutes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4E923-3FA7-408E-9674-7331ADA6644A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ain’s Model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298440" y="1368000"/>
            <a:ext cx="854064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ternative to last two phases of Nemhauser/Trick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gn teams to patterns in a given pattern 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gn opponent teams for each team and dat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.O. Cain, Jr, The computer-assisted heuristic approach used to schedule the major league baseball clubs, Optimal Strategies in Sports, North-Holland, 1977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9D841-3B3E-4F41-B5AB-16F0479F369C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5" name=""/>
          <p:cNvGrpSpPr/>
          <p:nvPr/>
        </p:nvGrpSpPr>
        <p:grpSpPr>
          <a:xfrm>
            <a:off x="2251080" y="990720"/>
            <a:ext cx="4430880" cy="1371600"/>
            <a:chOff x="2251080" y="990720"/>
            <a:chExt cx="4430880" cy="1371600"/>
          </a:xfrm>
        </p:grpSpPr>
        <p:grpSp>
          <p:nvGrpSpPr>
            <p:cNvPr id="326" name=""/>
            <p:cNvGrpSpPr/>
            <p:nvPr/>
          </p:nvGrpSpPr>
          <p:grpSpPr>
            <a:xfrm>
              <a:off x="2251080" y="990720"/>
              <a:ext cx="4360680" cy="1371600"/>
              <a:chOff x="2251080" y="990720"/>
              <a:chExt cx="4360680" cy="1371600"/>
            </a:xfrm>
          </p:grpSpPr>
          <p:sp>
            <p:nvSpPr>
              <p:cNvPr id="327" name=""/>
              <p:cNvSpPr/>
              <p:nvPr/>
            </p:nvSpPr>
            <p:spPr>
              <a:xfrm>
                <a:off x="2251080" y="990720"/>
                <a:ext cx="4360680" cy="137160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51080" y="1504800"/>
                <a:ext cx="4360680" cy="85716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112640" y="990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622680" y="990720"/>
                <a:ext cx="0" cy="1371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602960" y="990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092560" y="990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582880" y="990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6072840" y="990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2251080" y="1067040"/>
              <a:ext cx="443088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ates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      2      3       4       5      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attern 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H     A      B      A      H      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attern 2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     H      A      B      A       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Pattern 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A     B      H      H      B      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df103"/>
                </a:solidFill>
                <a:latin typeface="Times New Roman"/>
                <a:ea typeface="ＭＳ Ｐゴシック"/>
              </a:rPr>
              <a:t>Cain 1977                                    Schreuder 199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7" name=""/>
          <p:cNvGrpSpPr/>
          <p:nvPr/>
        </p:nvGrpSpPr>
        <p:grpSpPr>
          <a:xfrm>
            <a:off x="0" y="3276720"/>
            <a:ext cx="4430880" cy="1371600"/>
            <a:chOff x="0" y="3276720"/>
            <a:chExt cx="4430880" cy="1371600"/>
          </a:xfrm>
        </p:grpSpPr>
        <p:grpSp>
          <p:nvGrpSpPr>
            <p:cNvPr id="338" name=""/>
            <p:cNvGrpSpPr/>
            <p:nvPr/>
          </p:nvGrpSpPr>
          <p:grpSpPr>
            <a:xfrm>
              <a:off x="0" y="3276720"/>
              <a:ext cx="4360680" cy="1371600"/>
              <a:chOff x="0" y="3276720"/>
              <a:chExt cx="4360680" cy="1371600"/>
            </a:xfrm>
          </p:grpSpPr>
          <p:sp>
            <p:nvSpPr>
              <p:cNvPr id="339" name=""/>
              <p:cNvSpPr/>
              <p:nvPr/>
            </p:nvSpPr>
            <p:spPr>
              <a:xfrm>
                <a:off x="0" y="3276720"/>
                <a:ext cx="4360680" cy="137160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0" y="3790800"/>
                <a:ext cx="4360680" cy="85716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86156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371600" y="3276720"/>
                <a:ext cx="0" cy="1371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35188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4148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33180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382176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0" y="3353040"/>
              <a:ext cx="443088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ates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      2      3       4       5      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ynamo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H     A      B      A      H      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parta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     H      A      B      A       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itess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A     B      H      H      B      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8" name=""/>
          <p:cNvGrpSpPr/>
          <p:nvPr/>
        </p:nvGrpSpPr>
        <p:grpSpPr>
          <a:xfrm>
            <a:off x="4713120" y="3276720"/>
            <a:ext cx="4430880" cy="1371600"/>
            <a:chOff x="4713120" y="3276720"/>
            <a:chExt cx="4430880" cy="1371600"/>
          </a:xfrm>
        </p:grpSpPr>
        <p:grpSp>
          <p:nvGrpSpPr>
            <p:cNvPr id="349" name=""/>
            <p:cNvGrpSpPr/>
            <p:nvPr/>
          </p:nvGrpSpPr>
          <p:grpSpPr>
            <a:xfrm>
              <a:off x="4713120" y="3276720"/>
              <a:ext cx="4360680" cy="1371600"/>
              <a:chOff x="4713120" y="3276720"/>
              <a:chExt cx="4360680" cy="1371600"/>
            </a:xfrm>
          </p:grpSpPr>
          <p:sp>
            <p:nvSpPr>
              <p:cNvPr id="350" name=""/>
              <p:cNvSpPr/>
              <p:nvPr/>
            </p:nvSpPr>
            <p:spPr>
              <a:xfrm>
                <a:off x="4713120" y="3276720"/>
                <a:ext cx="4360680" cy="137160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713120" y="3790800"/>
                <a:ext cx="4360680" cy="85716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657468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084720" y="3276720"/>
                <a:ext cx="0" cy="1371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06500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55460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804492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8534880" y="327672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4713120" y="3353040"/>
              <a:ext cx="443088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ates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      2      3       4       5      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am 1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3H   2A    B      3A    2H    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am  2            B     1H    3A    B      1A     3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Team 3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1A   B      2H    1H    B       2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419200" y="5365800"/>
            <a:ext cx="4572000" cy="1371600"/>
            <a:chOff x="2419200" y="5365800"/>
            <a:chExt cx="4572000" cy="1371600"/>
          </a:xfrm>
        </p:grpSpPr>
        <p:grpSp>
          <p:nvGrpSpPr>
            <p:cNvPr id="360" name=""/>
            <p:cNvGrpSpPr/>
            <p:nvPr/>
          </p:nvGrpSpPr>
          <p:grpSpPr>
            <a:xfrm>
              <a:off x="2419200" y="5365800"/>
              <a:ext cx="4499640" cy="1371600"/>
              <a:chOff x="2419200" y="5365800"/>
              <a:chExt cx="4499640" cy="1371600"/>
            </a:xfrm>
          </p:grpSpPr>
          <p:sp>
            <p:nvSpPr>
              <p:cNvPr id="361" name=""/>
              <p:cNvSpPr/>
              <p:nvPr/>
            </p:nvSpPr>
            <p:spPr>
              <a:xfrm>
                <a:off x="2419200" y="5365800"/>
                <a:ext cx="4499640" cy="137160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2419200" y="5879880"/>
                <a:ext cx="4499640" cy="857160"/>
              </a:xfrm>
              <a:prstGeom prst="rect">
                <a:avLst/>
              </a:prstGeom>
              <a:solidFill>
                <a:srgbClr val="003399"/>
              </a:solidFill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340160" y="536580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834720" y="5365800"/>
                <a:ext cx="0" cy="1371600"/>
              </a:xfrm>
              <a:prstGeom prst="line">
                <a:avLst/>
              </a:prstGeom>
              <a:ln w="381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845960" y="536580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351400" y="536580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57200" y="536580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362640" y="5365800"/>
                <a:ext cx="0" cy="1371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69" name=""/>
            <p:cNvSpPr/>
            <p:nvPr/>
          </p:nvSpPr>
          <p:spPr>
            <a:xfrm>
              <a:off x="2419200" y="5442120"/>
              <a:ext cx="4572000" cy="11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ates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Courier New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1      2      3       4       5       6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Dynamo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H   SA    B      VA    SH    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Sparta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B     DH    VA    B      DA    VH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Vitesse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	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  <a:ea typeface="ＭＳ Ｐゴシック"/>
                </a:rPr>
                <a:t>             DA   B      VH    DH    B      V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0" name=""/>
          <p:cNvSpPr/>
          <p:nvPr/>
        </p:nvSpPr>
        <p:spPr>
          <a:xfrm flipH="1">
            <a:off x="2813040" y="2362320"/>
            <a:ext cx="98568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205240" y="2362320"/>
            <a:ext cx="843120" cy="9144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884320" y="4648320"/>
            <a:ext cx="63216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5486040" y="4648320"/>
            <a:ext cx="561960" cy="68580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BB948C-8D51-4E76-A1B7-887B62AFEFD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4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ain’s Model in CP: main idea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04280" y="1087560"/>
            <a:ext cx="8509320" cy="548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member: matrices </a:t>
            </a:r>
            <a:r>
              <a:rPr b="0" lang="en-US" sz="3200" spc="-1" strike="noStrike">
                <a:solidFill>
                  <a:srgbClr val="eaeaea"/>
                </a:solidFill>
                <a:latin typeface="Lucida Handwriting"/>
              </a:rPr>
              <a:t>H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Lucida Handwriting"/>
              </a:rPr>
              <a:t> 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eaeaea"/>
                </a:solidFill>
                <a:latin typeface="Lucida Handwriting"/>
              </a:rPr>
              <a:t> B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present patterns and  matrix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represents oppone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n: matrices H, A, B of 0/1 values representing given pattern se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ector p of variables ranging from 1 to n; p</a:t>
            </a:r>
            <a:r>
              <a:rPr b="0" lang="en-US" sz="3200" spc="-1" strike="noStrike" baseline="-25000">
                <a:solidFill>
                  <a:srgbClr val="eaeaea"/>
                </a:solidFill>
                <a:latin typeface="Times New Roman"/>
              </a:rPr>
              <a:t>GT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dentifies the pattern for team GT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eam GT plays according to pattern indicated by p on date 2: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p</a:t>
            </a:r>
            <a:r>
              <a:rPr b="0" lang="en-US" sz="3600" spc="-1" strike="noStrike" baseline="-60000">
                <a:solidFill>
                  <a:srgbClr val="eaeaea"/>
                </a:solidFill>
                <a:latin typeface="Times New Roman"/>
              </a:rPr>
              <a:t>GT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,2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=</a:t>
            </a:r>
            <a:r>
              <a:rPr b="0" lang="en-US" sz="4400" spc="-1" strike="noStrike">
                <a:solidFill>
                  <a:srgbClr val="eaeaea"/>
                </a:solidFill>
                <a:latin typeface="Lucida Handwriting"/>
              </a:rPr>
              <a:t>H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GT,2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11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lemented: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ement(p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GT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,H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4400" spc="-1" strike="noStrike">
                <a:solidFill>
                  <a:srgbClr val="eaeaea"/>
                </a:solidFill>
                <a:latin typeface="Lucida Handwriting"/>
              </a:rPr>
              <a:t>H</a:t>
            </a:r>
            <a:r>
              <a:rPr b="0" lang="en-US" sz="4400" spc="-1" strike="noStrike" baseline="-25000">
                <a:solidFill>
                  <a:srgbClr val="eaeaea"/>
                </a:solidFill>
                <a:latin typeface="Times New Roman"/>
              </a:rPr>
              <a:t>GT,2 </a:t>
            </a: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B7F4F-C9C4-4CDA-82A6-222D5A4D9B7A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Using Cain’s Model in CP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21920" y="1905120"/>
            <a:ext cx="872172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del for Cain simpler than model for Schreud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untime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atterns to teams: 33 seco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pponent team assignment: 20.7 seco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overall runtime for all 179 solutions: 57.1 second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9F02D3-3659-47CB-88D3-8A6D9DF16883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Friar Tuck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34680" y="1368000"/>
            <a:ext cx="8026200" cy="548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ool for sport scheduling, ACC 97/98 just one instance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venient entry of constraints through GU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iar Tuck is distributed under G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riar Tuck 1.1 available for Unix and Windows 95/98 (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ww.comp.nus.edu.sg/~henz/projects/FriarTuck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mplementation language: Oz using Mozart (see www.mozart-oz.org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2F6D5-FD2D-4028-8ABE-5D312A508ABA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Strategies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0" y="365760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D9361-BD32-43CB-8412-12E306684BC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nstraint Programming Technique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metry Break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ndant Constraint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lobal Constrai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5E0E9-5500-4F7A-93AA-7DCCFA9E8003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5200" y="240840"/>
            <a:ext cx="9219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ymmetry Breaking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079640" y="16128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ften, the most efficient model admi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ny different solutions that are essenti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same (“symmetric” to each other)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metry breaking tries to improve th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erformance of search by eliminat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uch symmetrie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252FA-5612-48FA-B09C-B6AE67166A01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Redundant Constrain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066680" y="1905120"/>
            <a:ext cx="707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uning of original model is often not sufficie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ing redundant constraints sometimes help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B5E75-05FD-4B3A-A6D8-0929C35568F3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Today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90720" y="220968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arch Components in OP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pagation Algorithm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Branch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ming Explora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ase study: ACC 97/98 Basketball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techniqu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514600"/>
            <a:ext cx="7621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146D45-9E7C-482E-A562-63DA3929D74D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5200" y="240840"/>
            <a:ext cx="921996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Example: Grocery Puzzle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73200" y="1587600"/>
            <a:ext cx="7727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 kid goes into a grocery store and buys four items. The cashier charges $7.11, the kid pays and is about to leave when the cashier calls the kid back, and says “Hold on, I multiplied the four items instead of adding them; I’ll try again… Gosh, with adding them the price still comes to $7.11”! What were the prices of the four items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3CB5-8C0B-4935-8A27-2DD738FC4A2F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216000" y="380520"/>
            <a:ext cx="957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Model for Grocery Puzzle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03040" y="2120400"/>
            <a:ext cx="8940960" cy="326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ariables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B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C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D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represent prices of items in ce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A + B + C + D = 711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A * B * C * D = 711 * 100 * 100 * 10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1732A-A7CB-4876-A3C8-4B38B8252A0C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dditional Constrain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113640" y="4952880"/>
            <a:ext cx="223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C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122640" y="2057400"/>
            <a:ext cx="4707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9 is prime factor of 711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us without loss of generality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ivisible by 7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0" y="1380960"/>
            <a:ext cx="7074000" cy="372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ndant constraint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metri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4B064-E1D3-47F8-B58A-926D9AC57AB5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38160" y="0"/>
            <a:ext cx="9220320" cy="105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Solution to Grocery Puzzle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398" name="">
            <a:hlinkClick r:id="rId1"/>
          </p:cNvPr>
          <p:cNvSpPr/>
          <p:nvPr/>
        </p:nvSpPr>
        <p:spPr>
          <a:xfrm>
            <a:off x="228600" y="1447920"/>
            <a:ext cx="1819440" cy="761760"/>
          </a:xfrm>
          <a:custGeom>
            <a:avLst/>
            <a:gdLst>
              <a:gd name="textAreaLeft" fmla="*/ 49320 w 1819440"/>
              <a:gd name="textAreaRight" fmla="*/ 1770120 w 18194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51577" h="21600">
                <a:moveTo>
                  <a:pt x="0" y="0"/>
                </a:moveTo>
                <a:lnTo>
                  <a:pt x="51577" y="0"/>
                </a:lnTo>
                <a:lnTo>
                  <a:pt x="51577" y="21600"/>
                </a:lnTo>
                <a:lnTo>
                  <a:pt x="0" y="21600"/>
                </a:lnTo>
                <a:close/>
              </a:path>
              <a:path fill="lightenLess" w="51577" h="21600">
                <a:moveTo>
                  <a:pt x="0" y="0"/>
                </a:moveTo>
                <a:lnTo>
                  <a:pt x="51577" y="0"/>
                </a:lnTo>
                <a:lnTo>
                  <a:pt x="50177" y="1400"/>
                </a:lnTo>
                <a:lnTo>
                  <a:pt x="1400" y="1400"/>
                </a:lnTo>
                <a:close/>
              </a:path>
              <a:path fill="darken" w="51577" h="21600">
                <a:moveTo>
                  <a:pt x="51577" y="0"/>
                </a:moveTo>
                <a:lnTo>
                  <a:pt x="51577" y="21600"/>
                </a:lnTo>
                <a:lnTo>
                  <a:pt x="50177" y="20200"/>
                </a:lnTo>
                <a:lnTo>
                  <a:pt x="50177" y="1400"/>
                </a:lnTo>
                <a:close/>
              </a:path>
              <a:path fill="darkenLess" w="51577" h="21600">
                <a:moveTo>
                  <a:pt x="515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177" y="20200"/>
                </a:lnTo>
                <a:close/>
              </a:path>
              <a:path fill="lighten" w="515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c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>
            <a:hlinkClick r:id="rId2"/>
          </p:cNvPr>
          <p:cNvSpPr/>
          <p:nvPr/>
        </p:nvSpPr>
        <p:spPr>
          <a:xfrm>
            <a:off x="2590920" y="1447920"/>
            <a:ext cx="2743200" cy="990360"/>
          </a:xfrm>
          <a:custGeom>
            <a:avLst/>
            <a:gdLst>
              <a:gd name="textAreaLeft" fmla="*/ 64080 w 2743200"/>
              <a:gd name="textAreaRight" fmla="*/ 2679120 w 27432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59816" h="21600">
                <a:moveTo>
                  <a:pt x="0" y="0"/>
                </a:moveTo>
                <a:lnTo>
                  <a:pt x="59816" y="0"/>
                </a:lnTo>
                <a:lnTo>
                  <a:pt x="59816" y="21600"/>
                </a:lnTo>
                <a:lnTo>
                  <a:pt x="0" y="21600"/>
                </a:lnTo>
                <a:close/>
              </a:path>
              <a:path fill="lightenLess" w="59816" h="21600">
                <a:moveTo>
                  <a:pt x="0" y="0"/>
                </a:moveTo>
                <a:lnTo>
                  <a:pt x="59816" y="0"/>
                </a:lnTo>
                <a:lnTo>
                  <a:pt x="58416" y="1400"/>
                </a:lnTo>
                <a:lnTo>
                  <a:pt x="1400" y="1400"/>
                </a:lnTo>
                <a:close/>
              </a:path>
              <a:path fill="darken" w="59816" h="21600">
                <a:moveTo>
                  <a:pt x="59816" y="0"/>
                </a:moveTo>
                <a:lnTo>
                  <a:pt x="59816" y="21600"/>
                </a:lnTo>
                <a:lnTo>
                  <a:pt x="58416" y="20200"/>
                </a:lnTo>
                <a:lnTo>
                  <a:pt x="58416" y="1400"/>
                </a:lnTo>
                <a:close/>
              </a:path>
              <a:path fill="darkenLess" w="59816" h="21600">
                <a:moveTo>
                  <a:pt x="59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416" y="20200"/>
                </a:lnTo>
                <a:close/>
              </a:path>
              <a:path fill="lighten" w="59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c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us Redundanc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>
            <a:hlinkClick r:id="rId3"/>
          </p:cNvPr>
          <p:cNvSpPr/>
          <p:nvPr/>
        </p:nvSpPr>
        <p:spPr>
          <a:xfrm>
            <a:off x="5867280" y="1447920"/>
            <a:ext cx="2819520" cy="1523880"/>
          </a:xfrm>
          <a:custGeom>
            <a:avLst/>
            <a:gdLst>
              <a:gd name="textAreaLeft" fmla="*/ 98640 w 2819520"/>
              <a:gd name="textAreaRight" fmla="*/ 2720880 w 2819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9961" h="21600">
                <a:moveTo>
                  <a:pt x="0" y="0"/>
                </a:moveTo>
                <a:lnTo>
                  <a:pt x="39961" y="0"/>
                </a:lnTo>
                <a:lnTo>
                  <a:pt x="39961" y="21600"/>
                </a:lnTo>
                <a:lnTo>
                  <a:pt x="0" y="21600"/>
                </a:lnTo>
                <a:close/>
              </a:path>
              <a:path fill="lightenLess" w="39961" h="21600">
                <a:moveTo>
                  <a:pt x="0" y="0"/>
                </a:moveTo>
                <a:lnTo>
                  <a:pt x="39961" y="0"/>
                </a:lnTo>
                <a:lnTo>
                  <a:pt x="38561" y="1400"/>
                </a:lnTo>
                <a:lnTo>
                  <a:pt x="1400" y="1400"/>
                </a:lnTo>
                <a:close/>
              </a:path>
              <a:path fill="darken" w="39961" h="21600">
                <a:moveTo>
                  <a:pt x="39961" y="0"/>
                </a:moveTo>
                <a:lnTo>
                  <a:pt x="39961" y="21600"/>
                </a:lnTo>
                <a:lnTo>
                  <a:pt x="38561" y="20200"/>
                </a:lnTo>
                <a:lnTo>
                  <a:pt x="38561" y="1400"/>
                </a:lnTo>
                <a:close/>
              </a:path>
              <a:path fill="darkenLess" w="39961" h="21600">
                <a:moveTo>
                  <a:pt x="3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61" y="20200"/>
                </a:lnTo>
                <a:close/>
              </a:path>
              <a:path fill="lighten" w="3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Groce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us Redundanc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us Symmetr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01415-E8BD-409B-86C5-0DAFC3BA9DA3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Example: Fraction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65160" y="1511280"/>
            <a:ext cx="707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nd distinct non-zero digits such that the following equation holds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A     D     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  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+     +      =   1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B C   E F   H I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206360" y="4038480"/>
            <a:ext cx="889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679840" y="4038480"/>
            <a:ext cx="88884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165560" y="4038480"/>
            <a:ext cx="8892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FF50-EF00-44C4-B86F-CFB6E5B58FF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Model for Fraction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965160" y="1511280"/>
            <a:ext cx="8940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variable for each letter, similar to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MONE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A*E*F*H*I + D*B*C*H*I + G*B*C*E*F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=          B*C*E*F*H*I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16183-88B3-4B06-9D58-00A33D65C45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-380880" y="0"/>
            <a:ext cx="100584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dditional Constrain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647960" y="1295280"/>
            <a:ext cx="3594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    D     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 C   E F   H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956120" y="1981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251400" y="1981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470720" y="198108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816080" y="3122640"/>
            <a:ext cx="280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A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3 *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B 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775480" y="380844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16080" y="5027760"/>
            <a:ext cx="2809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G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3 *     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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Courier New"/>
              </a:rPr>
              <a:t>H 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75480" y="5713560"/>
            <a:ext cx="68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0" y="1380960"/>
            <a:ext cx="707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ymmetries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dundant constraint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44B62-5A30-4EE8-83EA-BFDEF40BB181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/>
          </p:nvPr>
        </p:nvSpPr>
        <p:spPr>
          <a:xfrm>
            <a:off x="0" y="1062000"/>
            <a:ext cx="7074000" cy="579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onstrai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A*E*F*H*I +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D*B*C*H*I +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G*B*C*E*F = B*C*E*F*H*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ymmetr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A*E*F &gt;= D*B*C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D*H*I &gt;= G*E*F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Redundant Constrain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3*A &gt;= B*C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3*G =&lt; H*I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9" name="">
            <a:hlinkClick r:id="rId1"/>
          </p:cNvPr>
          <p:cNvSpPr/>
          <p:nvPr/>
        </p:nvSpPr>
        <p:spPr>
          <a:xfrm>
            <a:off x="0" y="0"/>
            <a:ext cx="1819440" cy="762120"/>
          </a:xfrm>
          <a:custGeom>
            <a:avLst/>
            <a:gdLst>
              <a:gd name="textAreaLeft" fmla="*/ 49320 w 1819440"/>
              <a:gd name="textAreaRight" fmla="*/ 1770120 w 1819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552" h="21600">
                <a:moveTo>
                  <a:pt x="0" y="0"/>
                </a:moveTo>
                <a:lnTo>
                  <a:pt x="51552" y="0"/>
                </a:lnTo>
                <a:lnTo>
                  <a:pt x="51552" y="21600"/>
                </a:lnTo>
                <a:lnTo>
                  <a:pt x="0" y="21600"/>
                </a:lnTo>
                <a:close/>
              </a:path>
              <a:path fill="lightenLess" w="51552" h="21600">
                <a:moveTo>
                  <a:pt x="0" y="0"/>
                </a:moveTo>
                <a:lnTo>
                  <a:pt x="51552" y="0"/>
                </a:lnTo>
                <a:lnTo>
                  <a:pt x="50152" y="1400"/>
                </a:lnTo>
                <a:lnTo>
                  <a:pt x="1400" y="1400"/>
                </a:lnTo>
                <a:close/>
              </a:path>
              <a:path fill="darken" w="51552" h="21600">
                <a:moveTo>
                  <a:pt x="51552" y="0"/>
                </a:moveTo>
                <a:lnTo>
                  <a:pt x="51552" y="21600"/>
                </a:lnTo>
                <a:lnTo>
                  <a:pt x="50152" y="20200"/>
                </a:lnTo>
                <a:lnTo>
                  <a:pt x="50152" y="1400"/>
                </a:lnTo>
                <a:close/>
              </a:path>
              <a:path fill="darkenLess" w="51552" h="21600">
                <a:moveTo>
                  <a:pt x="51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152" y="20200"/>
                </a:lnTo>
                <a:close/>
              </a:path>
              <a:path fill="lighten" w="51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>
            <a:hlinkClick r:id="rId2"/>
          </p:cNvPr>
          <p:cNvSpPr/>
          <p:nvPr/>
        </p:nvSpPr>
        <p:spPr>
          <a:xfrm>
            <a:off x="2362320" y="0"/>
            <a:ext cx="2743200" cy="990720"/>
          </a:xfrm>
          <a:custGeom>
            <a:avLst/>
            <a:gdLst>
              <a:gd name="textAreaLeft" fmla="*/ 64080 w 2743200"/>
              <a:gd name="textAreaRight" fmla="*/ 2679120 w 274320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59794" h="21600">
                <a:moveTo>
                  <a:pt x="0" y="0"/>
                </a:moveTo>
                <a:lnTo>
                  <a:pt x="59794" y="0"/>
                </a:lnTo>
                <a:lnTo>
                  <a:pt x="59794" y="21600"/>
                </a:lnTo>
                <a:lnTo>
                  <a:pt x="0" y="21600"/>
                </a:lnTo>
                <a:close/>
              </a:path>
              <a:path fill="lightenLess" w="59794" h="21600">
                <a:moveTo>
                  <a:pt x="0" y="0"/>
                </a:moveTo>
                <a:lnTo>
                  <a:pt x="59794" y="0"/>
                </a:lnTo>
                <a:lnTo>
                  <a:pt x="58394" y="1400"/>
                </a:lnTo>
                <a:lnTo>
                  <a:pt x="1400" y="1400"/>
                </a:lnTo>
                <a:close/>
              </a:path>
              <a:path fill="darken" w="59794" h="21600">
                <a:moveTo>
                  <a:pt x="59794" y="0"/>
                </a:moveTo>
                <a:lnTo>
                  <a:pt x="59794" y="21600"/>
                </a:lnTo>
                <a:lnTo>
                  <a:pt x="58394" y="20200"/>
                </a:lnTo>
                <a:lnTo>
                  <a:pt x="58394" y="1400"/>
                </a:lnTo>
                <a:close/>
              </a:path>
              <a:path fill="darkenLess" w="59794" h="21600">
                <a:moveTo>
                  <a:pt x="597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4" y="20200"/>
                </a:lnTo>
                <a:close/>
              </a:path>
              <a:path fill="lighten" w="597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us Symmetr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>
            <a:hlinkClick r:id="rId3"/>
          </p:cNvPr>
          <p:cNvSpPr/>
          <p:nvPr/>
        </p:nvSpPr>
        <p:spPr>
          <a:xfrm>
            <a:off x="5638680" y="0"/>
            <a:ext cx="2819520" cy="1523880"/>
          </a:xfrm>
          <a:custGeom>
            <a:avLst/>
            <a:gdLst>
              <a:gd name="textAreaLeft" fmla="*/ 98640 w 2819520"/>
              <a:gd name="textAreaRight" fmla="*/ 2720880 w 281952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39961" h="21600">
                <a:moveTo>
                  <a:pt x="0" y="0"/>
                </a:moveTo>
                <a:lnTo>
                  <a:pt x="39961" y="0"/>
                </a:lnTo>
                <a:lnTo>
                  <a:pt x="39961" y="21600"/>
                </a:lnTo>
                <a:lnTo>
                  <a:pt x="0" y="21600"/>
                </a:lnTo>
                <a:close/>
              </a:path>
              <a:path fill="lightenLess" w="39961" h="21600">
                <a:moveTo>
                  <a:pt x="0" y="0"/>
                </a:moveTo>
                <a:lnTo>
                  <a:pt x="39961" y="0"/>
                </a:lnTo>
                <a:lnTo>
                  <a:pt x="38561" y="1400"/>
                </a:lnTo>
                <a:lnTo>
                  <a:pt x="1400" y="1400"/>
                </a:lnTo>
                <a:close/>
              </a:path>
              <a:path fill="darken" w="39961" h="21600">
                <a:moveTo>
                  <a:pt x="39961" y="0"/>
                </a:moveTo>
                <a:lnTo>
                  <a:pt x="39961" y="21600"/>
                </a:lnTo>
                <a:lnTo>
                  <a:pt x="38561" y="20200"/>
                </a:lnTo>
                <a:lnTo>
                  <a:pt x="38561" y="1400"/>
                </a:lnTo>
                <a:close/>
              </a:path>
              <a:path fill="darkenLess" w="39961" h="21600">
                <a:moveTo>
                  <a:pt x="3996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61" y="20200"/>
                </a:lnTo>
                <a:close/>
              </a:path>
              <a:path fill="lighten" w="3996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Fraction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us Symmetr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lus Redundanci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B28D2-055D-407C-9064-F657F63CC299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Redundant Constraints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447920" y="1981080"/>
            <a:ext cx="6464160" cy="267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dding redundant constraints sometimes results in dramatic performance improveme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82E32-1FDE-4452-9B67-3687BA19DD65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-216000" y="380880"/>
            <a:ext cx="95760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Performance of Symmetry Breaking 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181160" y="1879560"/>
            <a:ext cx="6356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ll solution search: Symmetry breaking usually improves performance; often dramaticall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One solution search: Symmetry breaking may or may not improve performa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DB993-83B0-4D42-BBA0-D985714B3743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nstraint Solving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Given: a satisfiable constraint C and a new constraint C’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solving is deciding whether C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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C’ is satisfia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: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 n &gt; 2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’: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a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+  b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=  c</a:t>
            </a:r>
            <a:r>
              <a:rPr b="0" lang="en-US" sz="2800" spc="-1" strike="noStrike" baseline="30000">
                <a:solidFill>
                  <a:srgbClr val="eaeaea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AA712-29E2-45C4-B330-8687DB24EB1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560" y="-360"/>
            <a:ext cx="838188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“</a:t>
            </a: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Global” Constraints: Hamiltonian Path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range ChessBoard 1..64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{ChessBoard} Knightmove[ i in ChessBoard] =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{ j | j in ChessBoard :   ... 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var ChessBoard jump[ChessBoard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solve 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forall(p in ChessBoar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jump[p] in Knightmove[p]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circuit(jump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forall(p in ChessBoard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sum(c in Knightmove[p]) (jump[c] = p) = 1;  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Courier New"/>
              </a:rPr>
              <a:t>}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8" name="">
            <a:hlinkClick r:id="rId1"/>
          </p:cNvPr>
          <p:cNvSpPr/>
          <p:nvPr/>
        </p:nvSpPr>
        <p:spPr>
          <a:xfrm>
            <a:off x="7324560" y="3581280"/>
            <a:ext cx="1819440" cy="762120"/>
          </a:xfrm>
          <a:custGeom>
            <a:avLst/>
            <a:gdLst>
              <a:gd name="textAreaLeft" fmla="*/ 49320 w 1819440"/>
              <a:gd name="textAreaRight" fmla="*/ 1770120 w 18194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51552" h="21600">
                <a:moveTo>
                  <a:pt x="0" y="0"/>
                </a:moveTo>
                <a:lnTo>
                  <a:pt x="51552" y="0"/>
                </a:lnTo>
                <a:lnTo>
                  <a:pt x="51552" y="21600"/>
                </a:lnTo>
                <a:lnTo>
                  <a:pt x="0" y="21600"/>
                </a:lnTo>
                <a:close/>
              </a:path>
              <a:path fill="lightenLess" w="51552" h="21600">
                <a:moveTo>
                  <a:pt x="0" y="0"/>
                </a:moveTo>
                <a:lnTo>
                  <a:pt x="51552" y="0"/>
                </a:lnTo>
                <a:lnTo>
                  <a:pt x="50152" y="1400"/>
                </a:lnTo>
                <a:lnTo>
                  <a:pt x="1400" y="1400"/>
                </a:lnTo>
                <a:close/>
              </a:path>
              <a:path fill="darken" w="51552" h="21600">
                <a:moveTo>
                  <a:pt x="51552" y="0"/>
                </a:moveTo>
                <a:lnTo>
                  <a:pt x="51552" y="21600"/>
                </a:lnTo>
                <a:lnTo>
                  <a:pt x="50152" y="20200"/>
                </a:lnTo>
                <a:lnTo>
                  <a:pt x="50152" y="1400"/>
                </a:lnTo>
                <a:close/>
              </a:path>
              <a:path fill="darkenLess" w="51552" h="21600">
                <a:moveTo>
                  <a:pt x="51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152" y="20200"/>
                </a:lnTo>
                <a:close/>
              </a:path>
              <a:path fill="lighten" w="51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amilto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B85E7-DF5F-41D4-9796-6D9BCB8501C3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ssessment: Don’t Use It!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on’t use constraint programming for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 for which there are known efficient algorithms or heuristics. Example: Traveling salesman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 for which integer programming works well. Example: Many discrete assignment problem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 with weak constraints and a complex optimization function. Example: Timetabling problem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24B02F-FD2D-4BFD-952D-E1F5B7809241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Assessment: Do Use It!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51920" y="114300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se constraint programming for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 for which integer programming does not work (linear models too large)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 for which there are no efficient solutions available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 with tight constraints, where propagation can be employed. Example: ACC 97/98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blems for which strong branching algorithms exist. Example: Scheduling with unary resourc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8855FD-50D8-464E-B369-B29AD85557C5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Myths Debunked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 fad!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Constraint programming has been used successfully in a number of application areas, most spectacularly in schedul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niversal!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ore failure stories than success stories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ll new!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Many ideas come from AI search and Operations Research. In particular, the important ideas for scheduling come from OR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tificial Intelligence!</a:t>
            </a: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 All quite earthly algorithms. Constraint programming systems provide framework for different kinds of algorithms to interact.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F47986-E91C-49A7-B09E-4E2299CD0270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Perspective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 programming will be added to the OR tool set as a standard technique for solving combinatorial problems, along with local sear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straint programming techniques will be tightly integrated with integer programming and local search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8B5FD-FB33-4CE7-929F-1E1D8B55314E}" type="slidenum">
              <a:t>74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80880" y="-360"/>
            <a:ext cx="10058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Constraint Solving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early, constraint solving is not possible for general constraint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programming separates constraints into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ic constraints: constraint solv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Non-basic constraints: propagation (incomplete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EBC3B-0739-4140-A473-37F220385324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f103"/>
                </a:solidFill>
                <a:latin typeface="Times New Roman"/>
              </a:rPr>
              <a:t>Basic Constraints in Constraint Programming</a:t>
            </a:r>
            <a:endParaRPr b="0" lang="en-US" sz="4800" spc="-1" strike="noStrike">
              <a:solidFill>
                <a:srgbClr val="fdf10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Basic constraints are conjunctions of constraints of the form 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X 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 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where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S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is a finite set of integer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onstraint solving is done by intersecting domains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ple: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 =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{1..10}, Y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{9..20},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’ = 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X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{9..15}, Y</a:t>
            </a:r>
            <a:r>
              <a:rPr b="0" lang="en-US" sz="3200" spc="-1" strike="noStrike">
                <a:solidFill>
                  <a:srgbClr val="eaeaea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eaeaea"/>
                </a:solidFill>
                <a:latin typeface="Courier New"/>
              </a:rPr>
              <a:t>{14..30}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75000"/>
              <a:buFont typeface="Marlett" charset="2"/>
              <a:buChar char="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 practice, we keep a </a:t>
            </a: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solved form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, storing the current domain of every variable.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SMA HPC (c) NUS                                                                                                   15.094 Constraint Programming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8444-C414-4EFE-9A51-C9AF7DD56899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Martin Henz</dc:creator>
  <dc:description/>
  <dc:language>en-US</dc:language>
  <cp:lastModifiedBy>SOC </cp:lastModifiedBy>
  <cp:lastPrinted>2000-02-18T08:41:57Z</cp:lastPrinted>
  <dcterms:modified xsi:type="dcterms:W3CDTF">2001-03-15T12:19:48Z</dcterms:modified>
  <cp:revision>602</cp:revision>
  <dc:subject/>
  <dc:title>Intention-based Music Composition through C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My Documents</vt:lpwstr>
  </property>
  <property fmtid="{D5CDD505-2E9C-101B-9397-08002B2CF9AE}" pid="14" name="ScreenSize">
    <vt:r8>1</vt:r8>
  </property>
  <property fmtid="{D5CDD505-2E9C-101B-9397-08002B2CF9AE}" pid="15" name="ScreenUsage">
    <vt:r8>3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